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0279975" cy="428069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175280"/>
                <a:tab algn="l" pos="83502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216160" y="685440"/>
            <a:ext cx="24256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175280"/>
                <a:tab algn="l" pos="8350200"/>
              </a:tabLst>
              <a:defRPr b="0" lang="uk-U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175280"/>
                <a:tab algn="l" pos="8350200"/>
              </a:tabLst>
            </a:pPr>
            <a:fld id="{42333D10-0082-4EA9-978E-7DE60DD1E88A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216160" y="685800"/>
            <a:ext cx="242568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" spc="-1" strike="noStrike">
                <a:solidFill>
                  <a:srgbClr val="000000"/>
                </a:solidFill>
                <a:latin typeface="Bodoni MT"/>
              </a:rPr>
              <a:t>Dark  matter is preferably related to particles that are neutral and weakly interacting with matter </a:t>
            </a:r>
            <a:endParaRPr b="0" lang="en-US" sz="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Национальной подземной лаборатории Гран-Сассо (Италия) был проведен эксперимент по поиску солнечных аксионов с помощью сверхнизкофоновых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P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γ-спектрометров с образцами LiF в качестве литий-содержащей мишени. Поскольку эффективность регистрации для германиевых детекторов очень мала (≈ 3%), то мы рассматриваем возможность создания сцинтилляционного детектора на основе кристаллов LiF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и LiI(Eu) для поиска солнечных аксионов. С помощью сверхнизкофоновых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PGe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γ-спектрометров было измерено радиоактивное загрязнение сцинтилляционных кристаллов LiF(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) и специально разработанных низкофоновых LiI(Eu)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Было измерено энергетическое разрешение детектора на основе LiI(Eu) размером Ø20 × 20 мм: для γ-линии 570 кэВ 20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оно составило 22%. Эффективность регистрации 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γ-квантов увеличивается с ростом кристалла, поэтому целесообразно было бы разработать детектор больших размеров на основе кристаллов LiI(Eu) для поиска солнечных 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аксионов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Сонце може бути інтенсивним джерелом аксіонів, що утворюються в результаті конверсії </a:t>
            </a:r>
            <a:r>
              <a:rPr b="0" lang="uk-UA" sz="1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-квантів в сонячних магнітних полях, а також при разрядці збуджених ядерних рівнів.Аксіон, що виникає в результаті зняття збудження ядер 7Li в центральній області Сонця, може бути резонансно захоплений  відповідним ядром 7Li на Землі. Частинки, які випромінюються в наступному процесі розрядки ядра (</a:t>
            </a:r>
            <a:r>
              <a:rPr b="0" lang="uk-UA" sz="1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i="1" lang="uk-UA" sz="1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 и рентгенівські кванти, конверсійні електрони) можуть бути зареєстровані детектором, якщо він розміщений близько до мішені 7Li (або до складу якого входять ядра 7Li); при цьому в спектрі детектору буде спостерігатись характерний пік з енергією </a:t>
            </a:r>
            <a:r>
              <a:rPr b="0" i="1" lang="uk-UA" sz="1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uk-UA" sz="1000" spc="-1" strike="noStrike">
                <a:solidFill>
                  <a:srgbClr val="000000"/>
                </a:solidFill>
                <a:latin typeface="Arial"/>
              </a:rPr>
              <a:t>зб.=477.6 кеВ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175280"/>
                <a:tab algn="l" pos="8350200"/>
              </a:tabLst>
            </a:pPr>
            <a:fld id="{5DE82FBD-E8AA-4BE9-AEB7-F75C3C94F650}" type="slidenum">
              <a:rPr b="0" lang="uk-U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90EB-F785-4229-92CE-DC019C51A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2725092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14160" y="24744240"/>
            <a:ext cx="2725092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4A64-6BA8-425D-A5CB-2CB248C0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47784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14160" y="2474424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477840" y="2474424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F40A6-5B18-4AC5-913D-2850ECC3F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728000" y="998820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941840" y="998820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14160" y="2474424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728000" y="2474424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941840" y="24744240"/>
            <a:ext cx="877464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0DC0-EE72-4A2E-881F-EC1509579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14160" y="9988200"/>
            <a:ext cx="27250920" cy="2825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651"/>
              </a:spcBef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93EF-3938-42AC-A9E6-D3AB0A47D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27250920" cy="28251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4599B-236B-4ED0-AD2A-946D0B59C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13298400" cy="28251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477840" y="9988200"/>
            <a:ext cx="13298400" cy="28251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52A9-FF20-47A8-B62F-3C770FB5C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481F5-59AA-4D96-AFF4-B66BD5580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14160" y="1714320"/>
            <a:ext cx="27250920" cy="330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651"/>
              </a:spcBef>
              <a:tabLst>
                <a:tab algn="l" pos="0"/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F704-D3C8-49F3-9ACF-148AC9253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477840" y="9988200"/>
            <a:ext cx="13298400" cy="28251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14160" y="2474424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AE6E-4AC8-407A-9EB0-310553E64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13298400" cy="28251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47784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477840" y="2474424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848DD-532E-48F1-9872-3F780314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1416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477840" y="9988200"/>
            <a:ext cx="1329840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14160" y="24744240"/>
            <a:ext cx="27250920" cy="134755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indent="0">
              <a:spcBef>
                <a:spcPts val="3651"/>
              </a:spcBef>
              <a:buNone/>
              <a:tabLst>
                <a:tab algn="l" pos="4175280"/>
                <a:tab algn="l" pos="8350200"/>
              </a:tabLst>
            </a:pP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38F03-40E4-48D9-9789-D0FDC788D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4160" y="1714320"/>
            <a:ext cx="27250920" cy="713412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 algn="ctr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en-US" sz="201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0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14160" y="9988200"/>
            <a:ext cx="27250920" cy="2825100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t">
            <a:normAutofit/>
          </a:bodyPr>
          <a:p>
            <a:pPr marL="1565280" indent="-156528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1" marL="3392640" indent="-1305000">
              <a:spcBef>
                <a:spcPts val="3651"/>
              </a:spcBef>
              <a:buClr>
                <a:srgbClr val="000000"/>
              </a:buClr>
              <a:buFont typeface="Arial"/>
              <a:buChar char="–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2" marL="5219640" indent="-1042920">
              <a:spcBef>
                <a:spcPts val="3651"/>
              </a:spcBef>
              <a:buClr>
                <a:srgbClr val="000000"/>
              </a:buClr>
              <a:buFont typeface="Arial"/>
              <a:buChar char="•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3" marL="7307280" indent="-1042920">
              <a:spcBef>
                <a:spcPts val="3651"/>
              </a:spcBef>
              <a:buClr>
                <a:srgbClr val="000000"/>
              </a:buClr>
              <a:buFont typeface="Arial"/>
              <a:buChar char="–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4" marL="9396360" indent="-104292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5" marL="9396360" indent="-104292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  <a:p>
            <a:pPr lvl="6" marL="9396360" indent="-1042920">
              <a:spcBef>
                <a:spcPts val="3651"/>
              </a:spcBef>
              <a:buClr>
                <a:srgbClr val="000000"/>
              </a:buClr>
              <a:buFont typeface="Arial"/>
              <a:buChar char="»"/>
              <a:tabLst>
                <a:tab algn="l" pos="4175280"/>
                <a:tab algn="l" pos="8350200"/>
              </a:tabLst>
            </a:pPr>
            <a:r>
              <a:rPr b="0" lang="en-US" sz="14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514160" y="39675960"/>
            <a:ext cx="7064280" cy="2279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lstStyle>
            <a:lvl1pPr indent="0">
              <a:buNone/>
              <a:tabLst>
                <a:tab algn="l" pos="0"/>
                <a:tab algn="l" pos="4175280"/>
                <a:tab algn="l" pos="8350200"/>
              </a:tabLst>
              <a:defRPr b="0" lang="uk-UA" sz="5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175280"/>
                <a:tab algn="l" pos="8350200"/>
              </a:tabLst>
            </a:pPr>
            <a:r>
              <a:rPr b="0" lang="uk-UA" sz="5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345320" y="39675960"/>
            <a:ext cx="9588600" cy="2279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p>
            <a:pPr indent="0">
              <a:buNone/>
              <a:tabLst>
                <a:tab algn="l" pos="0"/>
                <a:tab algn="l" pos="4175280"/>
                <a:tab algn="l" pos="8350200"/>
              </a:tabLst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700800" y="39675960"/>
            <a:ext cx="7064280" cy="2279880"/>
          </a:xfrm>
          <a:prstGeom prst="rect">
            <a:avLst/>
          </a:prstGeom>
          <a:noFill/>
          <a:ln w="0">
            <a:noFill/>
          </a:ln>
        </p:spPr>
        <p:txBody>
          <a:bodyPr lIns="417600" rIns="417600" tIns="208800" bIns="208800" anchor="ctr">
            <a:noAutofit/>
          </a:bodyPr>
          <a:lstStyle>
            <a:lvl1pPr indent="0" algn="r">
              <a:buNone/>
              <a:tabLst>
                <a:tab algn="l" pos="0"/>
                <a:tab algn="l" pos="4175280"/>
                <a:tab algn="l" pos="8350200"/>
              </a:tabLst>
              <a:defRPr b="0" lang="uk-UA" sz="5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175280"/>
                <a:tab algn="l" pos="8350200"/>
              </a:tabLst>
            </a:pPr>
            <a:fld id="{3B05C596-B79F-4C31-B1DB-561064E611DB}" type="slidenum">
              <a:rPr b="0" lang="uk-UA" sz="5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54"/>
          <p:cNvSpPr/>
          <p:nvPr/>
        </p:nvSpPr>
        <p:spPr>
          <a:xfrm>
            <a:off x="306360" y="21620160"/>
            <a:ext cx="18002160" cy="655308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800" rIns="370800" tIns="370800" bIns="370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 Box 154"/>
          <p:cNvSpPr/>
          <p:nvPr/>
        </p:nvSpPr>
        <p:spPr>
          <a:xfrm>
            <a:off x="306360" y="38253960"/>
            <a:ext cx="18002160" cy="42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800" rIns="370800" tIns="370800" bIns="370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132"/>
          <p:cNvSpPr/>
          <p:nvPr/>
        </p:nvSpPr>
        <p:spPr>
          <a:xfrm>
            <a:off x="378000" y="2898720"/>
            <a:ext cx="29524320" cy="4824360"/>
          </a:xfrm>
          <a:prstGeom prst="rect">
            <a:avLst/>
          </a:prstGeom>
          <a:solidFill>
            <a:srgbClr val="6aa1a2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70800" rIns="370800" tIns="370800" bIns="370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P. Belli</a:t>
            </a:r>
            <a:r>
              <a:rPr b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, R. Bernabei</a:t>
            </a:r>
            <a:r>
              <a:rPr b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a,b,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, F. Cappella</a:t>
            </a:r>
            <a:r>
              <a:rPr b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c,d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, R. Cerulli</a:t>
            </a:r>
            <a:r>
              <a:rPr b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, F.A. Danevich</a:t>
            </a:r>
            <a:r>
              <a:rPr b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A. d'Angelo</a:t>
            </a:r>
            <a:r>
              <a:rPr b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c,d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, A. Incicchitti</a:t>
            </a:r>
            <a:r>
              <a:rPr b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c,d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, V.V. Kobychev</a:t>
            </a:r>
            <a:r>
              <a:rPr b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, M. Laubenstein</a:t>
            </a:r>
            <a:r>
              <a:rPr b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O.G. Polischuk</a:t>
            </a:r>
            <a:r>
              <a:rPr b="1" lang="en-US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c,</a:t>
            </a:r>
            <a:r>
              <a:rPr b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, V.I. Tretyak</a:t>
            </a:r>
            <a:r>
              <a:rPr b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a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INFN, Sezione di Rom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Tor Vergat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, I-00133 Rome,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b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Dipartimento di Fisica, Universita di Rom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Tor Vergat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, I-00133 Rome,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c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INFN, Sezione di Rom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La Sapienz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, I-00185, Rome,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d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Dipartimento di Fisica, Universita di Rom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La Sapienza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”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, I-00185, Rome,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e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INFN, Laboratori Nazionali del Gran Sasso, I-67010 Assergi (AQ), Ita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r>
              <a:rPr b="0" i="1" lang="uk-UA" sz="32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f</a:t>
            </a:r>
            <a:r>
              <a:rPr b="0" i="1" lang="uk-UA" sz="3200" spc="-1" strike="noStrike">
                <a:solidFill>
                  <a:srgbClr val="000000"/>
                </a:solidFill>
                <a:latin typeface="Arial"/>
                <a:ea typeface="宋体"/>
              </a:rPr>
              <a:t>Institute for Nuclear Research, MSP 03680 Kyiv, Ukra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54"/>
          <p:cNvSpPr/>
          <p:nvPr/>
        </p:nvSpPr>
        <p:spPr>
          <a:xfrm>
            <a:off x="378000" y="7866000"/>
            <a:ext cx="15193800" cy="1360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800" rIns="370800" tIns="370800" bIns="370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306360" y="399960"/>
            <a:ext cx="29667240" cy="2790720"/>
          </a:xfrm>
          <a:prstGeom prst="rect">
            <a:avLst/>
          </a:prstGeom>
          <a:solidFill>
            <a:srgbClr val="4f81bd"/>
          </a:soli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Нарада за результатами виконання цільової комплексної програми НАН України</a:t>
            </a:r>
            <a:br>
              <a:rPr sz="3600"/>
            </a:b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“Астрофізичні і космологічні проблеми прихованої маси і темної енергії Всесвіту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−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22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vember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2012,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yiv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kra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4175280"/>
                <a:tab algn="l" pos="83502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Search for </a:t>
            </a:r>
            <a:r>
              <a:rPr b="1" lang="ru-RU" sz="48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Li solar ax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ext Box 154"/>
          <p:cNvSpPr/>
          <p:nvPr/>
        </p:nvSpPr>
        <p:spPr>
          <a:xfrm>
            <a:off x="15644880" y="7866000"/>
            <a:ext cx="14328720" cy="1360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800" rIns="370800" tIns="370800" bIns="370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3"/>
          <p:cNvSpPr/>
          <p:nvPr/>
        </p:nvSpPr>
        <p:spPr>
          <a:xfrm>
            <a:off x="533160" y="7939080"/>
            <a:ext cx="330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175280"/>
                <a:tab algn="l" pos="835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1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36"/>
          <p:cNvSpPr/>
          <p:nvPr/>
        </p:nvSpPr>
        <p:spPr>
          <a:xfrm>
            <a:off x="15787800" y="7939080"/>
            <a:ext cx="352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75280"/>
                <a:tab algn="l" pos="835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uk-UA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eriment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53"/>
          <p:cNvSpPr/>
          <p:nvPr/>
        </p:nvSpPr>
        <p:spPr>
          <a:xfrm>
            <a:off x="405720" y="38398320"/>
            <a:ext cx="337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175280"/>
                <a:tab algn="l" pos="835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6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154"/>
          <p:cNvSpPr/>
          <p:nvPr/>
        </p:nvSpPr>
        <p:spPr>
          <a:xfrm>
            <a:off x="306360" y="28317960"/>
            <a:ext cx="18002160" cy="98647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800" rIns="370800" tIns="370800" bIns="370800" anchor="t">
            <a:noAutofit/>
          </a:bodyPr>
          <a:p>
            <a:pPr algn="just"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54"/>
          <p:cNvSpPr/>
          <p:nvPr/>
        </p:nvSpPr>
        <p:spPr>
          <a:xfrm>
            <a:off x="18453240" y="38253960"/>
            <a:ext cx="11520360" cy="4248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800" rIns="370800" tIns="370800" bIns="370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Прямоугольник 56"/>
          <p:cNvSpPr/>
          <p:nvPr/>
        </p:nvSpPr>
        <p:spPr>
          <a:xfrm>
            <a:off x="22808880" y="38333520"/>
            <a:ext cx="228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175280"/>
                <a:tab algn="l" pos="835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58"/>
          <p:cNvSpPr/>
          <p:nvPr/>
        </p:nvSpPr>
        <p:spPr>
          <a:xfrm>
            <a:off x="548280" y="21764520"/>
            <a:ext cx="39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175280"/>
                <a:tab algn="l" pos="835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nergy spectr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 Box 154"/>
          <p:cNvSpPr/>
          <p:nvPr/>
        </p:nvSpPr>
        <p:spPr>
          <a:xfrm>
            <a:off x="18453240" y="21620160"/>
            <a:ext cx="11520360" cy="165625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70800" rIns="370800" tIns="370800" bIns="370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41400"/>
                <a:tab algn="l" pos="1882800"/>
                <a:tab algn="l" pos="2824200"/>
                <a:tab algn="l" pos="3765600"/>
                <a:tab algn="l" pos="4707000"/>
                <a:tab algn="l" pos="5648400"/>
                <a:tab algn="l" pos="6589800"/>
                <a:tab algn="l" pos="7531200"/>
                <a:tab algn="l" pos="8472600"/>
                <a:tab algn="l" pos="9414000"/>
                <a:tab algn="l" pos="10355400"/>
              </a:tabLst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90"/>
          <p:cNvSpPr/>
          <p:nvPr/>
        </p:nvSpPr>
        <p:spPr>
          <a:xfrm>
            <a:off x="522360" y="39046320"/>
            <a:ext cx="17352720" cy="33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T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he new limit 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the mass of the monochromatic axions coupled to nucleons, which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could be emitted in the Sun in the deexcitation of the </a:t>
            </a:r>
            <a:r>
              <a:rPr b="0" lang="uk-UA" sz="2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Li nucle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and which, coming to the Earth, could excite the corresponding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Li 477.6 keV level: </a:t>
            </a: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m</a:t>
            </a:r>
            <a:r>
              <a:rPr b="1" i="1" lang="uk-UA" sz="2600" spc="-1" strike="noStrike" u="sng" baseline="-25000">
                <a:solidFill>
                  <a:srgbClr val="000000"/>
                </a:solidFill>
                <a:uFillTx/>
                <a:latin typeface="Arial"/>
              </a:rPr>
              <a:t>a</a:t>
            </a: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 &lt; 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8</a:t>
            </a:r>
            <a:r>
              <a:rPr b="1" i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6 keV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at 90% C.L. This is the best limi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obtained in the experiments with resonant absorption in </a:t>
            </a:r>
            <a:r>
              <a:rPr b="0" lang="uk-UA" sz="2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Li nuclei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[5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* The present measurements confirmed the radiopurity of the LiF crystal material [5]: only limits were obtained for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4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 mBq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g),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6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),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13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s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), and for radionuclides in the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3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 family: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2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),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12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b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),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0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l (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&lt;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) at 90% C.L. For the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3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 chain, slight pollution was found a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± 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Bq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g (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1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b,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214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6" descr=""/>
          <p:cNvPicPr/>
          <p:nvPr/>
        </p:nvPicPr>
        <p:blipFill>
          <a:blip r:embed="rId1"/>
          <a:stretch/>
        </p:blipFill>
        <p:spPr>
          <a:xfrm>
            <a:off x="738360" y="16765560"/>
            <a:ext cx="4608360" cy="27669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ольник 5"/>
          <p:cNvSpPr/>
          <p:nvPr/>
        </p:nvSpPr>
        <p:spPr>
          <a:xfrm>
            <a:off x="679680" y="16194240"/>
            <a:ext cx="6012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3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He + 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α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 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→ </a:t>
            </a:r>
            <a:r>
              <a:rPr b="1" lang="uk-UA" sz="2400" spc="-1" strike="noStrike" u="sng" baseline="30000">
                <a:solidFill>
                  <a:srgbClr val="000000"/>
                </a:solidFill>
                <a:uFillTx/>
                <a:latin typeface="Arial"/>
              </a:rPr>
              <a:t>7</a:t>
            </a:r>
            <a:r>
              <a:rPr b="1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Be + </a:t>
            </a:r>
            <a:r>
              <a:rPr b="1" i="1" lang="uk-UA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γ</a:t>
            </a: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-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рр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in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 the Su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8"/>
          <p:cNvSpPr/>
          <p:nvPr/>
        </p:nvSpPr>
        <p:spPr>
          <a:xfrm>
            <a:off x="593640" y="14468400"/>
            <a:ext cx="7128000" cy="167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nuclear levels can be populated in th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nuclear reactions inside the Sun, e.g. in the main </a:t>
            </a:r>
            <a:r>
              <a:rPr b="0" i="1" lang="uk-UA" sz="2600" spc="-1" strike="noStrike">
                <a:solidFill>
                  <a:srgbClr val="000000"/>
                </a:solidFill>
                <a:latin typeface="Arial"/>
              </a:rPr>
              <a:t>pp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cyc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with 10.52% population of the </a:t>
            </a:r>
            <a:r>
              <a:rPr b="0" lang="uk-UA" sz="2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Li level with 477.6 keV energ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25004880" y="8802720"/>
            <a:ext cx="4824360" cy="4319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" descr="H:\Photo\2003\italy-1\laubenstein03.jpg"/>
          <p:cNvPicPr/>
          <p:nvPr/>
        </p:nvPicPr>
        <p:blipFill>
          <a:blip r:embed="rId3"/>
          <a:stretch/>
        </p:blipFill>
        <p:spPr>
          <a:xfrm>
            <a:off x="21261240" y="11087280"/>
            <a:ext cx="4391280" cy="32907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94"/>
          <p:cNvSpPr/>
          <p:nvPr/>
        </p:nvSpPr>
        <p:spPr>
          <a:xfrm>
            <a:off x="15787800" y="11899800"/>
            <a:ext cx="547344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992240"/>
                <a:tab algn="l" pos="3984480"/>
                <a:tab algn="l" pos="5977080"/>
                <a:tab algn="l" pos="7969320"/>
                <a:tab algn="l" pos="996156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Samples</a:t>
            </a:r>
            <a:r>
              <a:rPr b="1" lang="uk-UA" sz="26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992240"/>
                <a:tab algn="l" pos="3984480"/>
                <a:tab algn="l" pos="5977080"/>
                <a:tab algn="l" pos="7969320"/>
                <a:tab algn="l" pos="99615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F – powder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24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722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1992240"/>
                <a:tab algn="l" pos="3984480"/>
                <a:tab algn="l" pos="5977080"/>
                <a:tab algn="l" pos="7969320"/>
                <a:tab algn="l" pos="996156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LiF(W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ystal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(55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3 g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4044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9" name="Group 95"/>
          <p:cNvGrpSpPr/>
          <p:nvPr/>
        </p:nvGrpSpPr>
        <p:grpSpPr>
          <a:xfrm>
            <a:off x="15932160" y="14419440"/>
            <a:ext cx="2949120" cy="3453840"/>
            <a:chOff x="15932160" y="14419440"/>
            <a:chExt cx="2949120" cy="3453840"/>
          </a:xfrm>
        </p:grpSpPr>
        <p:pic>
          <p:nvPicPr>
            <p:cNvPr id="70" name="Picture 96" descr=""/>
            <p:cNvPicPr/>
            <p:nvPr/>
          </p:nvPicPr>
          <p:blipFill>
            <a:blip r:embed="rId4"/>
            <a:stretch/>
          </p:blipFill>
          <p:spPr>
            <a:xfrm>
              <a:off x="15932160" y="14419440"/>
              <a:ext cx="2949120" cy="345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Text Box 97"/>
            <p:cNvSpPr/>
            <p:nvPr/>
          </p:nvSpPr>
          <p:spPr>
            <a:xfrm>
              <a:off x="15932160" y="14510520"/>
              <a:ext cx="873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992240"/>
                  <a:tab algn="l" pos="3984480"/>
                  <a:tab algn="l" pos="5977080"/>
                  <a:tab algn="l" pos="7969320"/>
                  <a:tab algn="l" pos="996156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Arial"/>
                </a:rPr>
                <a:t>2)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2" name="Прямоугольник 64"/>
          <p:cNvSpPr/>
          <p:nvPr/>
        </p:nvSpPr>
        <p:spPr>
          <a:xfrm>
            <a:off x="23564880" y="16435440"/>
            <a:ext cx="61927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cheme of the measurements with the GeBer HP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Ge detector (244 cm</a:t>
            </a:r>
            <a:r>
              <a:rPr b="0" lang="uk-UA" sz="2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)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Passive shield: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Cu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b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nergy resolution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~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 keV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@1333 keV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uk-UA" sz="2600" spc="-1" strike="noStrike" baseline="30000">
                <a:solidFill>
                  <a:srgbClr val="000000"/>
                </a:solidFill>
                <a:latin typeface="Arial"/>
              </a:rPr>
              <a:t>60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Со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175280"/>
                <a:tab algn="l" pos="83502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re we report the final results of the experiment performed with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radiopure LiF crystal (553 g) during 4044 h of measuremen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117"/>
          <p:cNvGrpSpPr/>
          <p:nvPr/>
        </p:nvGrpSpPr>
        <p:grpSpPr>
          <a:xfrm>
            <a:off x="25796880" y="12617280"/>
            <a:ext cx="2232000" cy="2449440"/>
            <a:chOff x="25796880" y="12617280"/>
            <a:chExt cx="2232000" cy="2449440"/>
          </a:xfrm>
        </p:grpSpPr>
        <p:sp>
          <p:nvSpPr>
            <p:cNvPr id="74" name="Line 115"/>
            <p:cNvSpPr/>
            <p:nvPr/>
          </p:nvSpPr>
          <p:spPr>
            <a:xfrm flipV="1">
              <a:off x="28028880" y="12617280"/>
              <a:ext cx="0" cy="244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Line 116"/>
            <p:cNvSpPr/>
            <p:nvPr/>
          </p:nvSpPr>
          <p:spPr>
            <a:xfrm flipH="1" flipV="1">
              <a:off x="25796880" y="14058720"/>
              <a:ext cx="2232000" cy="10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6" name="Text Box 131"/>
          <p:cNvSpPr/>
          <p:nvPr/>
        </p:nvSpPr>
        <p:spPr>
          <a:xfrm>
            <a:off x="954000" y="27525600"/>
            <a:ext cx="9217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nergy spectra with 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LiF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) (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4044 h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and without (3047 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684"/>
          <p:cNvSpPr/>
          <p:nvPr/>
        </p:nvSpPr>
        <p:spPr>
          <a:xfrm>
            <a:off x="10891800" y="21670920"/>
            <a:ext cx="705636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1992240"/>
                <a:tab algn="l" pos="3984480"/>
                <a:tab algn="l" pos="5977080"/>
                <a:tab algn="l" pos="7969320"/>
                <a:tab algn="l" pos="996156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Radioactive contamination of samples measured with the HP Ge 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1" lang="en-US" sz="2600" spc="-1" strike="noStrike">
                <a:solidFill>
                  <a:srgbClr val="000000"/>
                </a:solidFill>
                <a:latin typeface="Calibri"/>
              </a:rPr>
              <a:t> spectromet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Прямоугольник 5"/>
          <p:cNvSpPr/>
          <p:nvPr/>
        </p:nvSpPr>
        <p:spPr>
          <a:xfrm>
            <a:off x="10460160" y="26588880"/>
            <a:ext cx="7705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s — at 95% C.L., uncertainties — at ≈ 68% C.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F 243 g [5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F(W) 553 g [3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713"/>
          <p:cNvSpPr/>
          <p:nvPr/>
        </p:nvSpPr>
        <p:spPr>
          <a:xfrm>
            <a:off x="6211800" y="34189920"/>
            <a:ext cx="11952360" cy="377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61800" indent="-361800" algn="just">
              <a:lnSpc>
                <a:spcPct val="100000"/>
              </a:lnSpc>
              <a:tabLst>
                <a:tab algn="l" pos="0"/>
                <a:tab algn="l" pos="1992240"/>
                <a:tab algn="l" pos="3984480"/>
                <a:tab algn="l" pos="5977080"/>
                <a:tab algn="l" pos="7969320"/>
                <a:tab algn="l" pos="99615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stimation of the level of expected backgrounds from the different sources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tabLst>
                <a:tab algn="l" pos="0"/>
                <a:tab algn="l" pos="1992240"/>
                <a:tab algn="l" pos="3984480"/>
                <a:tab algn="l" pos="5977080"/>
                <a:tab algn="l" pos="7969320"/>
                <a:tab algn="l" pos="99615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(1)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Capture of neutrons by 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Li: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Li→ 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∗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tabLst>
                <a:tab algn="l" pos="0"/>
                <a:tab algn="l" pos="1992240"/>
                <a:tab algn="l" pos="3984480"/>
                <a:tab algn="l" pos="5977080"/>
                <a:tab algn="l" pos="7969320"/>
                <a:tab algn="l" pos="99615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(2)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Excitation of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477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6 keV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level of 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Li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by fast neutrons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En &gt;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478 keV)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and cosmic muons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tabLst>
                <a:tab algn="l" pos="0"/>
                <a:tab algn="l" pos="1992240"/>
                <a:tab algn="l" pos="3984480"/>
                <a:tab algn="l" pos="5977080"/>
                <a:tab algn="l" pos="7969320"/>
                <a:tab algn="l" pos="99615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(3)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Excitation of the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477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6 keV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level of 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Li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by α and 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particles from reaction n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Li → 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H + </a:t>
            </a:r>
            <a:r>
              <a:rPr b="0" i="1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tabLst>
                <a:tab algn="l" pos="0"/>
                <a:tab algn="l" pos="1992240"/>
                <a:tab algn="l" pos="3984480"/>
                <a:tab algn="l" pos="5977080"/>
                <a:tab algn="l" pos="7969320"/>
                <a:tab algn="l" pos="99615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(4) If in a detector shielding there is a material with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boron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conten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n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10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∗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tabLst>
                <a:tab algn="l" pos="0"/>
                <a:tab algn="l" pos="1992240"/>
                <a:tab algn="l" pos="3984480"/>
                <a:tab algn="l" pos="5977080"/>
                <a:tab algn="l" pos="7969320"/>
                <a:tab algn="l" pos="99615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(5)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Neutron capture on 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113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Cd (Cd is often use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as detector shielding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tabLst>
                <a:tab algn="l" pos="0"/>
                <a:tab algn="l" pos="1992240"/>
                <a:tab algn="l" pos="3984480"/>
                <a:tab algn="l" pos="5977080"/>
                <a:tab algn="l" pos="7969320"/>
                <a:tab algn="l" pos="99615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(6)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Other sources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related with specific detector and its shielding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tabLst>
                <a:tab algn="l" pos="0"/>
                <a:tab algn="l" pos="1992240"/>
                <a:tab algn="l" pos="3984480"/>
                <a:tab algn="l" pos="5977080"/>
                <a:tab algn="l" pos="7969320"/>
                <a:tab algn="l" pos="99615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(7)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LiF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sample itself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could be polluted by some long-lived cosmogenic or artificial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sources, and by nuclides from natural U/Th chains which could emit 478 keV </a:t>
            </a:r>
            <a:r>
              <a:rPr b="0" lang="uk-UA" sz="22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 quant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tabLst>
                <a:tab algn="l" pos="0"/>
                <a:tab algn="l" pos="1992240"/>
                <a:tab algn="l" pos="3984480"/>
                <a:tab algn="l" pos="5977080"/>
                <a:tab algn="l" pos="7969320"/>
                <a:tab algn="l" pos="99615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(8)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Cosmogenic activation of a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LiF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sample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 algn="just">
              <a:lnSpc>
                <a:spcPct val="100000"/>
              </a:lnSpc>
              <a:tabLst>
                <a:tab algn="l" pos="0"/>
                <a:tab algn="l" pos="1992240"/>
                <a:tab algn="l" pos="3984480"/>
                <a:tab algn="l" pos="5977080"/>
                <a:tab algn="l" pos="7969320"/>
                <a:tab algn="l" pos="9961560"/>
              </a:tabLst>
            </a:pP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(9)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Reaction p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+ 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Be +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n with the subsequent decay of 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Be </a:t>
            </a:r>
            <a:r>
              <a:rPr b="0" i="1" lang="uk-UA" sz="22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Li</a:t>
            </a:r>
            <a:r>
              <a:rPr b="0" lang="uk-UA" sz="2200" spc="-1" strike="noStrike" baseline="30000">
                <a:solidFill>
                  <a:srgbClr val="000000"/>
                </a:solidFill>
                <a:latin typeface="Arial"/>
              </a:rPr>
              <a:t>∗</a:t>
            </a:r>
            <a:r>
              <a:rPr b="0" lang="uk-UA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725"/>
          <p:cNvSpPr/>
          <p:nvPr/>
        </p:nvSpPr>
        <p:spPr>
          <a:xfrm>
            <a:off x="593640" y="29152800"/>
            <a:ext cx="6408720" cy="40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energy of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5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 excited level is 14.4 keV, so axions with mass greater than 14.4 keV (if they exist) just cannot be emitted instead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a in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5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 deexcitation (the same concerns also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8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r). This is the reason why experiments with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, which has greater excitation energy: 477.6 keV, are also valuable; this extends a window in excluded axion masses to limits of [477.6, 0.145] keV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728" descr=""/>
          <p:cNvPicPr/>
          <p:nvPr/>
        </p:nvPicPr>
        <p:blipFill>
          <a:blip r:embed="rId5"/>
          <a:stretch/>
        </p:blipFill>
        <p:spPr>
          <a:xfrm>
            <a:off x="1386000" y="33215400"/>
            <a:ext cx="3892320" cy="47512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730" descr=""/>
          <p:cNvPicPr/>
          <p:nvPr/>
        </p:nvPicPr>
        <p:blipFill>
          <a:blip r:embed="rId6"/>
          <a:stretch/>
        </p:blipFill>
        <p:spPr>
          <a:xfrm>
            <a:off x="378000" y="22440960"/>
            <a:ext cx="9937440" cy="494028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34"/>
          <p:cNvSpPr/>
          <p:nvPr/>
        </p:nvSpPr>
        <p:spPr>
          <a:xfrm>
            <a:off x="522360" y="8515440"/>
            <a:ext cx="1483344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2600" spc="-1" strike="noStrike" u="sng">
                <a:solidFill>
                  <a:srgbClr val="c0504d"/>
                </a:solidFill>
                <a:uFillTx/>
                <a:latin typeface="Arial"/>
              </a:rPr>
              <a:t>ax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s a hypothetical particle arising in an elegant solution of the so-called “strong CP problem” of quantum chromodynamics proposed by Peccei and Quinn [1]. Axions could constitute a part of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ark matte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[2]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cording to the statement of astronomy, astrophysics and cosmology, modern Universe has the following balance of the mass density: </a:t>
            </a: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visible matter — ~4%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  </a:t>
            </a: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dark matter  — ~23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        </a:t>
            </a:r>
            <a:r>
              <a:rPr b="0" lang="en-US" sz="2600" spc="-1" strike="noStrike">
                <a:solidFill>
                  <a:srgbClr val="c0504d"/>
                </a:solidFill>
                <a:latin typeface="Arial"/>
              </a:rPr>
              <a:t>dark energy  — ~73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xions could be intensively born inside the Sun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the interaction of the thermal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a with the solar electromagnetic fields due to the Primakoff effect; the energy spectrum of these axions is continuous up to  ~20 keV with the mean value of  4.2 keV. Their flux is related with value of coupling constant 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γ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axions can be emitted instead of </a:t>
            </a: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quanta in deexcitations of excited nuclear levels in magnetic transitions; their spectrum is quasi-monoenergetic, and the flux is related with g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 Box 735"/>
          <p:cNvSpPr/>
          <p:nvPr/>
        </p:nvSpPr>
        <p:spPr>
          <a:xfrm>
            <a:off x="18595800" y="39139920"/>
            <a:ext cx="11017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[1] R.D. Peccei, H.R. Quinn, Phys. Rev. Lett. 38 (1977) 1440; Phys. Rev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D 16 (1977) 1791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] L.D. Duy, K. van Bibber, New J. Phys. 11 (2009) 105008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3] P. Belli et al.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Phys. Lett. B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711 (2012) 45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[4] M. Krcmar et al., Phys. Rev. D   64 (2001) 115016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61800" indent="-361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[5] P. Belli et al.,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Nucl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Phy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A 806 (2008) 388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41"/>
          <p:cNvSpPr/>
          <p:nvPr/>
        </p:nvSpPr>
        <p:spPr>
          <a:xfrm>
            <a:off x="8010360" y="20180160"/>
            <a:ext cx="7274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ensive experimental searches up to now gave no direct evidences of their existence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42"/>
          <p:cNvSpPr/>
          <p:nvPr/>
        </p:nvSpPr>
        <p:spPr>
          <a:xfrm>
            <a:off x="522360" y="19399320"/>
            <a:ext cx="720072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amma quanta (and/or conversion electrons) emitted in the subsequent deexcitation processes can be observed with the help of detectors located near a sample with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 (or incorporating these nuclei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AutoShape 743"/>
          <p:cNvSpPr/>
          <p:nvPr/>
        </p:nvSpPr>
        <p:spPr>
          <a:xfrm>
            <a:off x="6570720" y="18164160"/>
            <a:ext cx="1008000" cy="431640"/>
          </a:xfrm>
          <a:prstGeom prst="rightArrow">
            <a:avLst>
              <a:gd name="adj1" fmla="val 50000"/>
              <a:gd name="adj2" fmla="val 58382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175280"/>
                <a:tab algn="l" pos="8350200"/>
              </a:tabLst>
            </a:pPr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Содержимое 2"/>
          <p:cNvSpPr/>
          <p:nvPr/>
        </p:nvSpPr>
        <p:spPr>
          <a:xfrm>
            <a:off x="15500520" y="8586720"/>
            <a:ext cx="936144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oals</a:t>
            </a:r>
            <a:r>
              <a:rPr b="1" lang="uk-UA" sz="2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arch for solar axions from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Li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the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Gran Sasso National Laboratories (3600 m w.e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Italy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with low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background HP Ge detec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1440" indent="-27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estigation of radioactive contamination of scintillators with L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7291440" y="28427400"/>
          <a:ext cx="10872720" cy="5578560"/>
        </p:xfrm>
        <a:graphic>
          <a:graphicData uri="http://schemas.openxmlformats.org/drawingml/2006/table">
            <a:tbl>
              <a:tblPr/>
              <a:tblGrid>
                <a:gridCol w="2403720"/>
                <a:gridCol w="5491080"/>
                <a:gridCol w="1268280"/>
                <a:gridCol w="1709640"/>
              </a:tblGrid>
              <a:tr h="89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xion source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keV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hort descrip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m 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</a:t>
                      </a:r>
                      <a:r>
                        <a:rPr b="0" lang="en-US" sz="2400" spc="-1" strike="noStrike" baseline="-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keV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Ye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[3]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7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, E</a:t>
                      </a:r>
                      <a:r>
                        <a:rPr b="0" lang="en-US" sz="24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477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P Ge 78 cm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Li 61.4 g, 2667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P Ge 160 cm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LiOH 3.9 kg, 3028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P Ge 408 cm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Li 243 g, 722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P Ge 244 cm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Li 553 g, 4044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2.0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6.0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.9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.6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is work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, E</a:t>
                      </a:r>
                      <a:r>
                        <a:rPr b="0" lang="it-IT" sz="24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14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(Li), Fe 33 mg (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 95%), 1472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(Li), Fe 16 mg (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 80%), 712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 PIN, Fe 206 mg (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 96%), 334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(Li), Fe 290 mg (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 91%), 2028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otal Earth heat fl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(Li), Fe 33 mg (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7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e 95%), 1472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745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60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16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59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145</a:t>
                      </a: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99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it-IT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83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r, E</a:t>
                      </a:r>
                      <a:r>
                        <a:rPr b="0" lang="it-IT" sz="2400" spc="-1" strike="noStrike" baseline="-30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r>
                        <a:rPr b="0" lang="it-IT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= 9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C</a:t>
                      </a:r>
                      <a:r>
                        <a:rPr b="0" lang="nb-NO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243 cm</a:t>
                      </a:r>
                      <a:r>
                        <a:rPr b="0" lang="nb-NO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, Kr gas 1.7 g, 564 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5</a:t>
                      </a:r>
                      <a:r>
                        <a:rPr b="0" lang="nb-NO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nb-NO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0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 95% C.L.      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b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At 90% C.L.        </a:t>
                      </a:r>
                      <a:r>
                        <a:rPr b="0" lang="en-GB" sz="24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</a:t>
                      </a:r>
                      <a:r>
                        <a:rPr b="0" lang="en-GB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Proportional counter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90" name=""/>
          <p:cNvGraphicFramePr/>
          <p:nvPr/>
        </p:nvGraphicFramePr>
        <p:xfrm>
          <a:off x="10603080" y="22556880"/>
          <a:ext cx="7561080" cy="3902040"/>
        </p:xfrm>
        <a:graphic>
          <a:graphicData uri="http://schemas.openxmlformats.org/drawingml/2006/table">
            <a:tbl>
              <a:tblPr/>
              <a:tblGrid>
                <a:gridCol w="1825560"/>
                <a:gridCol w="1665360"/>
                <a:gridCol w="1406520"/>
                <a:gridCol w="2663640"/>
              </a:tblGrid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hai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uclid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tivity</a:t>
                      </a: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(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Bq</a:t>
                      </a: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/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g</a:t>
                      </a:r>
                      <a:r>
                        <a:rPr b="0" lang="uk-UA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8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endParaRPr b="0" lang="en-US" sz="8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endParaRPr b="0" lang="en-US" sz="8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iF(W)</a:t>
                      </a: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**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2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8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80(11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.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endParaRPr b="0" lang="en-US" sz="8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08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l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1(10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38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U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6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a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5(7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= 3.3(8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endParaRPr b="0" lang="en-US" sz="8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40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4(16)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5.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endParaRPr b="0" lang="en-US" sz="8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60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endParaRPr b="0" lang="en-US" sz="8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37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&lt; 1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175280"/>
                          <a:tab algn="l" pos="83502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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.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1" name="Group 1302"/>
          <p:cNvGrpSpPr/>
          <p:nvPr/>
        </p:nvGrpSpPr>
        <p:grpSpPr>
          <a:xfrm>
            <a:off x="19892880" y="22485240"/>
            <a:ext cx="8567640" cy="9864360"/>
            <a:chOff x="19892880" y="22485240"/>
            <a:chExt cx="8567640" cy="9864360"/>
          </a:xfrm>
        </p:grpSpPr>
        <p:sp>
          <p:nvSpPr>
            <p:cNvPr id="92" name="AutoShape 127"/>
            <p:cNvSpPr/>
            <p:nvPr/>
          </p:nvSpPr>
          <p:spPr>
            <a:xfrm>
              <a:off x="23954040" y="26206200"/>
              <a:ext cx="664560" cy="1544760"/>
            </a:xfrm>
            <a:prstGeom prst="downArrow">
              <a:avLst>
                <a:gd name="adj1" fmla="val 50000"/>
                <a:gd name="adj2" fmla="val 58112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175280"/>
                  <a:tab algn="l" pos="8350200"/>
                </a:tabLst>
              </a:pPr>
              <a:endParaRPr b="0" lang="en-US" sz="8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93" name="Picture 732" descr=""/>
            <p:cNvPicPr/>
            <p:nvPr/>
          </p:nvPicPr>
          <p:blipFill>
            <a:blip r:embed="rId7"/>
            <a:stretch/>
          </p:blipFill>
          <p:spPr>
            <a:xfrm>
              <a:off x="19892880" y="22485240"/>
              <a:ext cx="8348040" cy="3943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733" descr=""/>
            <p:cNvPicPr/>
            <p:nvPr/>
          </p:nvPicPr>
          <p:blipFill>
            <a:blip r:embed="rId8"/>
            <a:stretch/>
          </p:blipFill>
          <p:spPr>
            <a:xfrm>
              <a:off x="19965960" y="27820440"/>
              <a:ext cx="8494560" cy="452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Line 125"/>
            <p:cNvSpPr/>
            <p:nvPr/>
          </p:nvSpPr>
          <p:spPr>
            <a:xfrm flipH="1">
              <a:off x="20999520" y="25223400"/>
              <a:ext cx="2584440" cy="273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Line 126"/>
            <p:cNvSpPr/>
            <p:nvPr/>
          </p:nvSpPr>
          <p:spPr>
            <a:xfrm>
              <a:off x="25358400" y="25364160"/>
              <a:ext cx="2954160" cy="259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7" name="Прямоугольник 66"/>
          <p:cNvSpPr/>
          <p:nvPr/>
        </p:nvSpPr>
        <p:spPr>
          <a:xfrm>
            <a:off x="18668880" y="21771000"/>
            <a:ext cx="1130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75280"/>
                <a:tab algn="l" pos="835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xion ma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1299" descr=""/>
          <p:cNvPicPr/>
          <p:nvPr/>
        </p:nvPicPr>
        <p:blipFill>
          <a:blip r:embed="rId9"/>
          <a:stretch/>
        </p:blipFill>
        <p:spPr>
          <a:xfrm>
            <a:off x="20540520" y="32524560"/>
            <a:ext cx="7705800" cy="148140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sp>
        <p:nvSpPr>
          <p:cNvPr id="99" name="Text Box 1300"/>
          <p:cNvSpPr/>
          <p:nvPr/>
        </p:nvSpPr>
        <p:spPr>
          <a:xfrm>
            <a:off x="18956160" y="34485120"/>
            <a:ext cx="10153800" cy="25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number of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 nuclei in a target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time of measurements (in second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axion mass (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Symbol" charset="2"/>
              <a:buChar char="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efficient of conversion to electrons for the given nuclea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    transitio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fficiency to detect the full energy with the HP Ge detector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 Box 1303"/>
          <p:cNvSpPr/>
          <p:nvPr/>
        </p:nvSpPr>
        <p:spPr>
          <a:xfrm>
            <a:off x="22485240" y="37233360"/>
            <a:ext cx="3529080" cy="64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ru-RU" sz="3200" spc="-1" strike="noStrike" baseline="-25000">
                <a:solidFill>
                  <a:srgbClr val="ff0000"/>
                </a:solidFill>
                <a:latin typeface="Arial"/>
              </a:rPr>
              <a:t>a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 &lt; 8.6 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ke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Прямоугольник 105"/>
          <p:cNvSpPr/>
          <p:nvPr/>
        </p:nvSpPr>
        <p:spPr>
          <a:xfrm>
            <a:off x="450720" y="2846088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175280"/>
                <a:tab algn="l" pos="83502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5. Discu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1304"/>
          <p:cNvSpPr/>
          <p:nvPr/>
        </p:nvSpPr>
        <p:spPr>
          <a:xfrm>
            <a:off x="28533600" y="32926320"/>
            <a:ext cx="936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Прямоугольник 8"/>
          <p:cNvSpPr/>
          <p:nvPr/>
        </p:nvSpPr>
        <p:spPr>
          <a:xfrm>
            <a:off x="8156520" y="14492160"/>
            <a:ext cx="7128000" cy="17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uclei can be also excited due to the thermal movement; evidently, nuclei with excited levels at low energies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xc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re preferable –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5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e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xc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14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keV, 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83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r: 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exc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= 9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4 k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/>
          <p:nvPr/>
        </p:nvSpPr>
        <p:spPr>
          <a:xfrm>
            <a:off x="26157240" y="15067080"/>
            <a:ext cx="338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Laboratori Nazionali del Gran Sasso 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0"/>
          <a:stretch/>
        </p:blipFill>
        <p:spPr>
          <a:xfrm>
            <a:off x="8083440" y="16579800"/>
            <a:ext cx="7128000" cy="304632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1"/>
          <a:stretch/>
        </p:blipFill>
        <p:spPr>
          <a:xfrm>
            <a:off x="11539440" y="10186920"/>
            <a:ext cx="3168720" cy="1568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2"/>
          <a:stretch/>
        </p:blipFill>
        <p:spPr>
          <a:xfrm>
            <a:off x="17516520" y="17516520"/>
            <a:ext cx="5327640" cy="31734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17732520" y="16148160"/>
            <a:ext cx="1223640" cy="2735280"/>
          </a:xfrm>
          <a:prstGeom prst="line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8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6T08:51:48Z</dcterms:created>
  <dc:creator>Dmoon</dc:creator>
  <dc:description/>
  <dc:language>en-US</dc:language>
  <cp:lastModifiedBy>DeNo user</cp:lastModifiedBy>
  <dcterms:modified xsi:type="dcterms:W3CDTF">2012-11-13T16:53:04Z</dcterms:modified>
  <cp:revision>143</cp:revision>
  <dc:subject/>
  <dc:title>Презентация PowerPoint</dc:title>
</cp:coreProperties>
</file>