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9603363" cy="30243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840B-5994-4E53-9B8E-23EFB9513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79640" y="1212480"/>
            <a:ext cx="35645760" cy="5040360"/>
          </a:xfrm>
          <a:prstGeom prst="rect">
            <a:avLst/>
          </a:prstGeom>
          <a:noFill/>
          <a:ln w="0">
            <a:noFill/>
          </a:ln>
        </p:spPr>
        <p:txBody>
          <a:bodyPr lIns="384840" rIns="384840" tIns="192240" bIns="192240" anchor="ctr">
            <a:noAutofit/>
          </a:bodyPr>
          <a:p>
            <a:pPr indent="0" algn="ctr">
              <a:buNone/>
              <a:tabLst>
                <a:tab algn="l" pos="0"/>
                <a:tab algn="l" pos="3859200"/>
                <a:tab algn="l" pos="7718400"/>
              </a:tabLst>
            </a:pPr>
            <a:endParaRPr b="0" lang="en-US" sz="1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79640" y="7054560"/>
            <a:ext cx="35645760" cy="9520560"/>
          </a:xfrm>
          <a:prstGeom prst="rect">
            <a:avLst/>
          </a:prstGeom>
          <a:noFill/>
          <a:ln w="0">
            <a:noFill/>
          </a:ln>
        </p:spPr>
        <p:txBody>
          <a:bodyPr lIns="384840" rIns="384840" tIns="192240" bIns="192240" anchor="t">
            <a:normAutofit/>
          </a:bodyPr>
          <a:p>
            <a:pPr indent="0">
              <a:spcBef>
                <a:spcPts val="3376"/>
              </a:spcBef>
              <a:buNone/>
              <a:tabLst>
                <a:tab algn="l" pos="3859200"/>
                <a:tab algn="l" pos="7718400"/>
              </a:tabLst>
            </a:pPr>
            <a:endParaRPr b="0" lang="en-US" sz="1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79640" y="17479800"/>
            <a:ext cx="35645760" cy="9520560"/>
          </a:xfrm>
          <a:prstGeom prst="rect">
            <a:avLst/>
          </a:prstGeom>
          <a:noFill/>
          <a:ln w="0">
            <a:noFill/>
          </a:ln>
        </p:spPr>
        <p:txBody>
          <a:bodyPr lIns="384840" rIns="384840" tIns="192240" bIns="192240" anchor="t">
            <a:normAutofit/>
          </a:bodyPr>
          <a:p>
            <a:pPr indent="0">
              <a:spcBef>
                <a:spcPts val="3376"/>
              </a:spcBef>
              <a:buNone/>
              <a:tabLst>
                <a:tab algn="l" pos="3859200"/>
                <a:tab algn="l" pos="7718400"/>
              </a:tabLst>
            </a:pPr>
            <a:endParaRPr b="0" lang="en-US" sz="1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FB17-9192-455F-9A1B-DB67F137E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79640" y="1212480"/>
            <a:ext cx="35645760" cy="5040360"/>
          </a:xfrm>
          <a:prstGeom prst="rect">
            <a:avLst/>
          </a:prstGeom>
          <a:noFill/>
          <a:ln w="0">
            <a:noFill/>
          </a:ln>
        </p:spPr>
        <p:txBody>
          <a:bodyPr lIns="384840" rIns="384840" tIns="192240" bIns="192240" anchor="ctr">
            <a:noAutofit/>
          </a:bodyPr>
          <a:p>
            <a:pPr indent="0" algn="ctr">
              <a:buNone/>
              <a:tabLst>
                <a:tab algn="l" pos="0"/>
                <a:tab algn="l" pos="3859200"/>
                <a:tab algn="l" pos="7718400"/>
              </a:tabLst>
            </a:pPr>
            <a:endParaRPr b="0" lang="en-US" sz="1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79640" y="7054560"/>
            <a:ext cx="17394840" cy="9520560"/>
          </a:xfrm>
          <a:prstGeom prst="rect">
            <a:avLst/>
          </a:prstGeom>
          <a:noFill/>
          <a:ln w="0">
            <a:noFill/>
          </a:ln>
        </p:spPr>
        <p:txBody>
          <a:bodyPr lIns="384840" rIns="384840" tIns="192240" bIns="192240" anchor="t">
            <a:normAutofit/>
          </a:bodyPr>
          <a:p>
            <a:pPr indent="0">
              <a:spcBef>
                <a:spcPts val="3376"/>
              </a:spcBef>
              <a:buNone/>
              <a:tabLst>
                <a:tab algn="l" pos="3859200"/>
                <a:tab algn="l" pos="7718400"/>
              </a:tabLst>
            </a:pPr>
            <a:endParaRPr b="0" lang="en-US" sz="1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0244600" y="7054560"/>
            <a:ext cx="17394840" cy="9520560"/>
          </a:xfrm>
          <a:prstGeom prst="rect">
            <a:avLst/>
          </a:prstGeom>
          <a:noFill/>
          <a:ln w="0">
            <a:noFill/>
          </a:ln>
        </p:spPr>
        <p:txBody>
          <a:bodyPr lIns="384840" rIns="384840" tIns="192240" bIns="192240" anchor="t">
            <a:normAutofit/>
          </a:bodyPr>
          <a:p>
            <a:pPr indent="0">
              <a:spcBef>
                <a:spcPts val="3376"/>
              </a:spcBef>
              <a:buNone/>
              <a:tabLst>
                <a:tab algn="l" pos="3859200"/>
                <a:tab algn="l" pos="7718400"/>
              </a:tabLst>
            </a:pPr>
            <a:endParaRPr b="0" lang="en-US" sz="1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79640" y="17479800"/>
            <a:ext cx="17394840" cy="9520560"/>
          </a:xfrm>
          <a:prstGeom prst="rect">
            <a:avLst/>
          </a:prstGeom>
          <a:noFill/>
          <a:ln w="0">
            <a:noFill/>
          </a:ln>
        </p:spPr>
        <p:txBody>
          <a:bodyPr lIns="384840" rIns="384840" tIns="192240" bIns="192240" anchor="t">
            <a:normAutofit/>
          </a:bodyPr>
          <a:p>
            <a:pPr indent="0">
              <a:spcBef>
                <a:spcPts val="3376"/>
              </a:spcBef>
              <a:buNone/>
              <a:tabLst>
                <a:tab algn="l" pos="3859200"/>
                <a:tab algn="l" pos="7718400"/>
              </a:tabLst>
            </a:pPr>
            <a:endParaRPr b="0" lang="en-US" sz="1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0244600" y="17479800"/>
            <a:ext cx="17394840" cy="9520560"/>
          </a:xfrm>
          <a:prstGeom prst="rect">
            <a:avLst/>
          </a:prstGeom>
          <a:noFill/>
          <a:ln w="0">
            <a:noFill/>
          </a:ln>
        </p:spPr>
        <p:txBody>
          <a:bodyPr lIns="384840" rIns="384840" tIns="192240" bIns="192240" anchor="t">
            <a:normAutofit/>
          </a:bodyPr>
          <a:p>
            <a:pPr indent="0">
              <a:spcBef>
                <a:spcPts val="3376"/>
              </a:spcBef>
              <a:buNone/>
              <a:tabLst>
                <a:tab algn="l" pos="3859200"/>
                <a:tab algn="l" pos="7718400"/>
              </a:tabLst>
            </a:pPr>
            <a:endParaRPr b="0" lang="en-US" sz="1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4CCA-C029-414E-A174-AD4DB1E15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79640" y="1212480"/>
            <a:ext cx="35645760" cy="5040360"/>
          </a:xfrm>
          <a:prstGeom prst="rect">
            <a:avLst/>
          </a:prstGeom>
          <a:noFill/>
          <a:ln w="0">
            <a:noFill/>
          </a:ln>
        </p:spPr>
        <p:txBody>
          <a:bodyPr lIns="384840" rIns="384840" tIns="192240" bIns="192240" anchor="ctr">
            <a:noAutofit/>
          </a:bodyPr>
          <a:p>
            <a:pPr indent="0" algn="ctr">
              <a:buNone/>
              <a:tabLst>
                <a:tab algn="l" pos="0"/>
                <a:tab algn="l" pos="3859200"/>
                <a:tab algn="l" pos="7718400"/>
              </a:tabLst>
            </a:pPr>
            <a:endParaRPr b="0" lang="en-US" sz="1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79640" y="7054560"/>
            <a:ext cx="11477520" cy="9520560"/>
          </a:xfrm>
          <a:prstGeom prst="rect">
            <a:avLst/>
          </a:prstGeom>
          <a:noFill/>
          <a:ln w="0">
            <a:noFill/>
          </a:ln>
        </p:spPr>
        <p:txBody>
          <a:bodyPr lIns="384840" rIns="384840" tIns="192240" bIns="192240" anchor="t">
            <a:normAutofit/>
          </a:bodyPr>
          <a:p>
            <a:pPr indent="0">
              <a:spcBef>
                <a:spcPts val="3376"/>
              </a:spcBef>
              <a:buNone/>
              <a:tabLst>
                <a:tab algn="l" pos="3859200"/>
                <a:tab algn="l" pos="7718400"/>
              </a:tabLst>
            </a:pPr>
            <a:endParaRPr b="0" lang="en-US" sz="1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4031360" y="7054560"/>
            <a:ext cx="11477520" cy="9520560"/>
          </a:xfrm>
          <a:prstGeom prst="rect">
            <a:avLst/>
          </a:prstGeom>
          <a:noFill/>
          <a:ln w="0">
            <a:noFill/>
          </a:ln>
        </p:spPr>
        <p:txBody>
          <a:bodyPr lIns="384840" rIns="384840" tIns="192240" bIns="192240" anchor="t">
            <a:normAutofit/>
          </a:bodyPr>
          <a:p>
            <a:pPr indent="0">
              <a:spcBef>
                <a:spcPts val="3376"/>
              </a:spcBef>
              <a:buNone/>
              <a:tabLst>
                <a:tab algn="l" pos="3859200"/>
                <a:tab algn="l" pos="7718400"/>
              </a:tabLst>
            </a:pPr>
            <a:endParaRPr b="0" lang="en-US" sz="1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6083080" y="7054560"/>
            <a:ext cx="11477520" cy="9520560"/>
          </a:xfrm>
          <a:prstGeom prst="rect">
            <a:avLst/>
          </a:prstGeom>
          <a:noFill/>
          <a:ln w="0">
            <a:noFill/>
          </a:ln>
        </p:spPr>
        <p:txBody>
          <a:bodyPr lIns="384840" rIns="384840" tIns="192240" bIns="192240" anchor="t">
            <a:normAutofit/>
          </a:bodyPr>
          <a:p>
            <a:pPr indent="0">
              <a:spcBef>
                <a:spcPts val="3376"/>
              </a:spcBef>
              <a:buNone/>
              <a:tabLst>
                <a:tab algn="l" pos="3859200"/>
                <a:tab algn="l" pos="7718400"/>
              </a:tabLst>
            </a:pPr>
            <a:endParaRPr b="0" lang="en-US" sz="1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79640" y="17479800"/>
            <a:ext cx="11477520" cy="9520560"/>
          </a:xfrm>
          <a:prstGeom prst="rect">
            <a:avLst/>
          </a:prstGeom>
          <a:noFill/>
          <a:ln w="0">
            <a:noFill/>
          </a:ln>
        </p:spPr>
        <p:txBody>
          <a:bodyPr lIns="384840" rIns="384840" tIns="192240" bIns="192240" anchor="t">
            <a:normAutofit/>
          </a:bodyPr>
          <a:p>
            <a:pPr indent="0">
              <a:spcBef>
                <a:spcPts val="3376"/>
              </a:spcBef>
              <a:buNone/>
              <a:tabLst>
                <a:tab algn="l" pos="3859200"/>
                <a:tab algn="l" pos="7718400"/>
              </a:tabLst>
            </a:pPr>
            <a:endParaRPr b="0" lang="en-US" sz="1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4031360" y="17479800"/>
            <a:ext cx="11477520" cy="9520560"/>
          </a:xfrm>
          <a:prstGeom prst="rect">
            <a:avLst/>
          </a:prstGeom>
          <a:noFill/>
          <a:ln w="0">
            <a:noFill/>
          </a:ln>
        </p:spPr>
        <p:txBody>
          <a:bodyPr lIns="384840" rIns="384840" tIns="192240" bIns="192240" anchor="t">
            <a:normAutofit/>
          </a:bodyPr>
          <a:p>
            <a:pPr indent="0">
              <a:spcBef>
                <a:spcPts val="3376"/>
              </a:spcBef>
              <a:buNone/>
              <a:tabLst>
                <a:tab algn="l" pos="3859200"/>
                <a:tab algn="l" pos="7718400"/>
              </a:tabLst>
            </a:pPr>
            <a:endParaRPr b="0" lang="en-US" sz="1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6083080" y="17479800"/>
            <a:ext cx="11477520" cy="9520560"/>
          </a:xfrm>
          <a:prstGeom prst="rect">
            <a:avLst/>
          </a:prstGeom>
          <a:noFill/>
          <a:ln w="0">
            <a:noFill/>
          </a:ln>
        </p:spPr>
        <p:txBody>
          <a:bodyPr lIns="384840" rIns="384840" tIns="192240" bIns="192240" anchor="t">
            <a:normAutofit/>
          </a:bodyPr>
          <a:p>
            <a:pPr indent="0">
              <a:spcBef>
                <a:spcPts val="3376"/>
              </a:spcBef>
              <a:buNone/>
              <a:tabLst>
                <a:tab algn="l" pos="3859200"/>
                <a:tab algn="l" pos="7718400"/>
              </a:tabLst>
            </a:pPr>
            <a:endParaRPr b="0" lang="en-US" sz="1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6200-89A5-4B8C-B1C1-9D5610EE1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79640" y="1212480"/>
            <a:ext cx="35645760" cy="5040360"/>
          </a:xfrm>
          <a:prstGeom prst="rect">
            <a:avLst/>
          </a:prstGeom>
          <a:noFill/>
          <a:ln w="0">
            <a:noFill/>
          </a:ln>
        </p:spPr>
        <p:txBody>
          <a:bodyPr lIns="384840" rIns="384840" tIns="192240" bIns="192240" anchor="ctr">
            <a:noAutofit/>
          </a:bodyPr>
          <a:p>
            <a:pPr indent="0" algn="ctr">
              <a:buNone/>
              <a:tabLst>
                <a:tab algn="l" pos="0"/>
                <a:tab algn="l" pos="3859200"/>
                <a:tab algn="l" pos="7718400"/>
              </a:tabLst>
            </a:pPr>
            <a:endParaRPr b="0" lang="en-US" sz="1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79640" y="7054560"/>
            <a:ext cx="35645760" cy="1995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376"/>
              </a:spcBef>
              <a:buNone/>
              <a:tabLst>
                <a:tab algn="l" pos="0"/>
                <a:tab algn="l" pos="3859200"/>
                <a:tab algn="l" pos="7718400"/>
              </a:tabLst>
            </a:pPr>
            <a:endParaRPr b="0" lang="en-US" sz="1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8D2A-5D27-438C-86CE-1B21D4A29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79640" y="1212480"/>
            <a:ext cx="35645760" cy="5040360"/>
          </a:xfrm>
          <a:prstGeom prst="rect">
            <a:avLst/>
          </a:prstGeom>
          <a:noFill/>
          <a:ln w="0">
            <a:noFill/>
          </a:ln>
        </p:spPr>
        <p:txBody>
          <a:bodyPr lIns="384840" rIns="384840" tIns="192240" bIns="192240" anchor="ctr">
            <a:noAutofit/>
          </a:bodyPr>
          <a:p>
            <a:pPr indent="0" algn="ctr">
              <a:buNone/>
              <a:tabLst>
                <a:tab algn="l" pos="0"/>
                <a:tab algn="l" pos="3859200"/>
                <a:tab algn="l" pos="7718400"/>
              </a:tabLst>
            </a:pPr>
            <a:endParaRPr b="0" lang="en-US" sz="1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79640" y="7054560"/>
            <a:ext cx="35645760" cy="19959480"/>
          </a:xfrm>
          <a:prstGeom prst="rect">
            <a:avLst/>
          </a:prstGeom>
          <a:noFill/>
          <a:ln w="0">
            <a:noFill/>
          </a:ln>
        </p:spPr>
        <p:txBody>
          <a:bodyPr lIns="384840" rIns="384840" tIns="192240" bIns="192240" anchor="t">
            <a:normAutofit/>
          </a:bodyPr>
          <a:p>
            <a:pPr indent="0">
              <a:spcBef>
                <a:spcPts val="3376"/>
              </a:spcBef>
              <a:buNone/>
              <a:tabLst>
                <a:tab algn="l" pos="3859200"/>
                <a:tab algn="l" pos="7718400"/>
              </a:tabLst>
            </a:pPr>
            <a:endParaRPr b="0" lang="en-US" sz="1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AD33-AB84-4FE1-9F3D-1CA31603B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79640" y="1212480"/>
            <a:ext cx="35645760" cy="5040360"/>
          </a:xfrm>
          <a:prstGeom prst="rect">
            <a:avLst/>
          </a:prstGeom>
          <a:noFill/>
          <a:ln w="0">
            <a:noFill/>
          </a:ln>
        </p:spPr>
        <p:txBody>
          <a:bodyPr lIns="384840" rIns="384840" tIns="192240" bIns="192240" anchor="ctr">
            <a:noAutofit/>
          </a:bodyPr>
          <a:p>
            <a:pPr indent="0" algn="ctr">
              <a:buNone/>
              <a:tabLst>
                <a:tab algn="l" pos="0"/>
                <a:tab algn="l" pos="3859200"/>
                <a:tab algn="l" pos="7718400"/>
              </a:tabLst>
            </a:pPr>
            <a:endParaRPr b="0" lang="en-US" sz="1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79640" y="7054560"/>
            <a:ext cx="17394840" cy="19959480"/>
          </a:xfrm>
          <a:prstGeom prst="rect">
            <a:avLst/>
          </a:prstGeom>
          <a:noFill/>
          <a:ln w="0">
            <a:noFill/>
          </a:ln>
        </p:spPr>
        <p:txBody>
          <a:bodyPr lIns="384840" rIns="384840" tIns="192240" bIns="192240" anchor="t">
            <a:normAutofit/>
          </a:bodyPr>
          <a:p>
            <a:pPr indent="0">
              <a:spcBef>
                <a:spcPts val="3376"/>
              </a:spcBef>
              <a:buNone/>
              <a:tabLst>
                <a:tab algn="l" pos="3859200"/>
                <a:tab algn="l" pos="7718400"/>
              </a:tabLst>
            </a:pPr>
            <a:endParaRPr b="0" lang="en-US" sz="1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0244600" y="7054560"/>
            <a:ext cx="17394840" cy="19959480"/>
          </a:xfrm>
          <a:prstGeom prst="rect">
            <a:avLst/>
          </a:prstGeom>
          <a:noFill/>
          <a:ln w="0">
            <a:noFill/>
          </a:ln>
        </p:spPr>
        <p:txBody>
          <a:bodyPr lIns="384840" rIns="384840" tIns="192240" bIns="192240" anchor="t">
            <a:normAutofit/>
          </a:bodyPr>
          <a:p>
            <a:pPr indent="0">
              <a:spcBef>
                <a:spcPts val="3376"/>
              </a:spcBef>
              <a:buNone/>
              <a:tabLst>
                <a:tab algn="l" pos="3859200"/>
                <a:tab algn="l" pos="7718400"/>
              </a:tabLst>
            </a:pPr>
            <a:endParaRPr b="0" lang="en-US" sz="1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2713-08EB-4DD4-8A9E-CA6C5B360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79640" y="1212480"/>
            <a:ext cx="35645760" cy="5040360"/>
          </a:xfrm>
          <a:prstGeom prst="rect">
            <a:avLst/>
          </a:prstGeom>
          <a:noFill/>
          <a:ln w="0">
            <a:noFill/>
          </a:ln>
        </p:spPr>
        <p:txBody>
          <a:bodyPr lIns="384840" rIns="384840" tIns="192240" bIns="192240" anchor="ctr">
            <a:noAutofit/>
          </a:bodyPr>
          <a:p>
            <a:pPr indent="0" algn="ctr">
              <a:buNone/>
              <a:tabLst>
                <a:tab algn="l" pos="0"/>
                <a:tab algn="l" pos="3859200"/>
                <a:tab algn="l" pos="7718400"/>
              </a:tabLst>
            </a:pPr>
            <a:endParaRPr b="0" lang="en-US" sz="1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1CBD-2FC1-45BC-9CDA-A6ED80C91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79640" y="1212480"/>
            <a:ext cx="35645760" cy="23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3859200"/>
                <a:tab algn="l" pos="7718400"/>
              </a:tabLst>
            </a:pPr>
            <a:endParaRPr b="0" lang="en-US" sz="1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3125-714F-436B-A146-E04BDD6F2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79640" y="1212480"/>
            <a:ext cx="35645760" cy="5040360"/>
          </a:xfrm>
          <a:prstGeom prst="rect">
            <a:avLst/>
          </a:prstGeom>
          <a:noFill/>
          <a:ln w="0">
            <a:noFill/>
          </a:ln>
        </p:spPr>
        <p:txBody>
          <a:bodyPr lIns="384840" rIns="384840" tIns="192240" bIns="192240" anchor="ctr">
            <a:noAutofit/>
          </a:bodyPr>
          <a:p>
            <a:pPr indent="0" algn="ctr">
              <a:buNone/>
              <a:tabLst>
                <a:tab algn="l" pos="0"/>
                <a:tab algn="l" pos="3859200"/>
                <a:tab algn="l" pos="7718400"/>
              </a:tabLst>
            </a:pPr>
            <a:endParaRPr b="0" lang="en-US" sz="1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79640" y="7054560"/>
            <a:ext cx="17394840" cy="9520560"/>
          </a:xfrm>
          <a:prstGeom prst="rect">
            <a:avLst/>
          </a:prstGeom>
          <a:noFill/>
          <a:ln w="0">
            <a:noFill/>
          </a:ln>
        </p:spPr>
        <p:txBody>
          <a:bodyPr lIns="384840" rIns="384840" tIns="192240" bIns="192240" anchor="t">
            <a:normAutofit/>
          </a:bodyPr>
          <a:p>
            <a:pPr indent="0">
              <a:spcBef>
                <a:spcPts val="3376"/>
              </a:spcBef>
              <a:buNone/>
              <a:tabLst>
                <a:tab algn="l" pos="3859200"/>
                <a:tab algn="l" pos="7718400"/>
              </a:tabLst>
            </a:pPr>
            <a:endParaRPr b="0" lang="en-US" sz="1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0244600" y="7054560"/>
            <a:ext cx="17394840" cy="19959480"/>
          </a:xfrm>
          <a:prstGeom prst="rect">
            <a:avLst/>
          </a:prstGeom>
          <a:noFill/>
          <a:ln w="0">
            <a:noFill/>
          </a:ln>
        </p:spPr>
        <p:txBody>
          <a:bodyPr lIns="384840" rIns="384840" tIns="192240" bIns="192240" anchor="t">
            <a:normAutofit/>
          </a:bodyPr>
          <a:p>
            <a:pPr indent="0">
              <a:spcBef>
                <a:spcPts val="3376"/>
              </a:spcBef>
              <a:buNone/>
              <a:tabLst>
                <a:tab algn="l" pos="3859200"/>
                <a:tab algn="l" pos="7718400"/>
              </a:tabLst>
            </a:pPr>
            <a:endParaRPr b="0" lang="en-US" sz="1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79640" y="17479800"/>
            <a:ext cx="17394840" cy="9520560"/>
          </a:xfrm>
          <a:prstGeom prst="rect">
            <a:avLst/>
          </a:prstGeom>
          <a:noFill/>
          <a:ln w="0">
            <a:noFill/>
          </a:ln>
        </p:spPr>
        <p:txBody>
          <a:bodyPr lIns="384840" rIns="384840" tIns="192240" bIns="192240" anchor="t">
            <a:normAutofit/>
          </a:bodyPr>
          <a:p>
            <a:pPr indent="0">
              <a:spcBef>
                <a:spcPts val="3376"/>
              </a:spcBef>
              <a:buNone/>
              <a:tabLst>
                <a:tab algn="l" pos="3859200"/>
                <a:tab algn="l" pos="7718400"/>
              </a:tabLst>
            </a:pPr>
            <a:endParaRPr b="0" lang="en-US" sz="1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7B94-9561-4F88-AA02-11206D51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79640" y="1212480"/>
            <a:ext cx="35645760" cy="5040360"/>
          </a:xfrm>
          <a:prstGeom prst="rect">
            <a:avLst/>
          </a:prstGeom>
          <a:noFill/>
          <a:ln w="0">
            <a:noFill/>
          </a:ln>
        </p:spPr>
        <p:txBody>
          <a:bodyPr lIns="384840" rIns="384840" tIns="192240" bIns="192240" anchor="ctr">
            <a:noAutofit/>
          </a:bodyPr>
          <a:p>
            <a:pPr indent="0" algn="ctr">
              <a:buNone/>
              <a:tabLst>
                <a:tab algn="l" pos="0"/>
                <a:tab algn="l" pos="3859200"/>
                <a:tab algn="l" pos="7718400"/>
              </a:tabLst>
            </a:pPr>
            <a:endParaRPr b="0" lang="en-US" sz="1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79640" y="7054560"/>
            <a:ext cx="17394840" cy="19959480"/>
          </a:xfrm>
          <a:prstGeom prst="rect">
            <a:avLst/>
          </a:prstGeom>
          <a:noFill/>
          <a:ln w="0">
            <a:noFill/>
          </a:ln>
        </p:spPr>
        <p:txBody>
          <a:bodyPr lIns="384840" rIns="384840" tIns="192240" bIns="192240" anchor="t">
            <a:normAutofit/>
          </a:bodyPr>
          <a:p>
            <a:pPr indent="0">
              <a:spcBef>
                <a:spcPts val="3376"/>
              </a:spcBef>
              <a:buNone/>
              <a:tabLst>
                <a:tab algn="l" pos="3859200"/>
                <a:tab algn="l" pos="7718400"/>
              </a:tabLst>
            </a:pPr>
            <a:endParaRPr b="0" lang="en-US" sz="1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0244600" y="7054560"/>
            <a:ext cx="17394840" cy="9520560"/>
          </a:xfrm>
          <a:prstGeom prst="rect">
            <a:avLst/>
          </a:prstGeom>
          <a:noFill/>
          <a:ln w="0">
            <a:noFill/>
          </a:ln>
        </p:spPr>
        <p:txBody>
          <a:bodyPr lIns="384840" rIns="384840" tIns="192240" bIns="192240" anchor="t">
            <a:normAutofit/>
          </a:bodyPr>
          <a:p>
            <a:pPr indent="0">
              <a:spcBef>
                <a:spcPts val="3376"/>
              </a:spcBef>
              <a:buNone/>
              <a:tabLst>
                <a:tab algn="l" pos="3859200"/>
                <a:tab algn="l" pos="7718400"/>
              </a:tabLst>
            </a:pPr>
            <a:endParaRPr b="0" lang="en-US" sz="1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0244600" y="17479800"/>
            <a:ext cx="17394840" cy="9520560"/>
          </a:xfrm>
          <a:prstGeom prst="rect">
            <a:avLst/>
          </a:prstGeom>
          <a:noFill/>
          <a:ln w="0">
            <a:noFill/>
          </a:ln>
        </p:spPr>
        <p:txBody>
          <a:bodyPr lIns="384840" rIns="384840" tIns="192240" bIns="192240" anchor="t">
            <a:normAutofit/>
          </a:bodyPr>
          <a:p>
            <a:pPr indent="0">
              <a:spcBef>
                <a:spcPts val="3376"/>
              </a:spcBef>
              <a:buNone/>
              <a:tabLst>
                <a:tab algn="l" pos="3859200"/>
                <a:tab algn="l" pos="7718400"/>
              </a:tabLst>
            </a:pPr>
            <a:endParaRPr b="0" lang="en-US" sz="1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0DB5-5669-478C-A56E-C795F092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640" y="1212480"/>
            <a:ext cx="35645760" cy="5040360"/>
          </a:xfrm>
          <a:prstGeom prst="rect">
            <a:avLst/>
          </a:prstGeom>
          <a:noFill/>
          <a:ln w="0">
            <a:noFill/>
          </a:ln>
        </p:spPr>
        <p:txBody>
          <a:bodyPr lIns="384840" rIns="384840" tIns="192240" bIns="192240" anchor="ctr">
            <a:noAutofit/>
          </a:bodyPr>
          <a:p>
            <a:pPr indent="0" algn="ctr">
              <a:buNone/>
              <a:tabLst>
                <a:tab algn="l" pos="0"/>
                <a:tab algn="l" pos="3859200"/>
                <a:tab algn="l" pos="7718400"/>
              </a:tabLst>
            </a:pPr>
            <a:endParaRPr b="0" lang="en-US" sz="1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79640" y="7054560"/>
            <a:ext cx="17394840" cy="9520560"/>
          </a:xfrm>
          <a:prstGeom prst="rect">
            <a:avLst/>
          </a:prstGeom>
          <a:noFill/>
          <a:ln w="0">
            <a:noFill/>
          </a:ln>
        </p:spPr>
        <p:txBody>
          <a:bodyPr lIns="384840" rIns="384840" tIns="192240" bIns="192240" anchor="t">
            <a:normAutofit/>
          </a:bodyPr>
          <a:p>
            <a:pPr indent="0">
              <a:spcBef>
                <a:spcPts val="3376"/>
              </a:spcBef>
              <a:buNone/>
              <a:tabLst>
                <a:tab algn="l" pos="3859200"/>
                <a:tab algn="l" pos="7718400"/>
              </a:tabLst>
            </a:pPr>
            <a:endParaRPr b="0" lang="en-US" sz="1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0244600" y="7054560"/>
            <a:ext cx="17394840" cy="9520560"/>
          </a:xfrm>
          <a:prstGeom prst="rect">
            <a:avLst/>
          </a:prstGeom>
          <a:noFill/>
          <a:ln w="0">
            <a:noFill/>
          </a:ln>
        </p:spPr>
        <p:txBody>
          <a:bodyPr lIns="384840" rIns="384840" tIns="192240" bIns="192240" anchor="t">
            <a:normAutofit/>
          </a:bodyPr>
          <a:p>
            <a:pPr indent="0">
              <a:spcBef>
                <a:spcPts val="3376"/>
              </a:spcBef>
              <a:buNone/>
              <a:tabLst>
                <a:tab algn="l" pos="3859200"/>
                <a:tab algn="l" pos="7718400"/>
              </a:tabLst>
            </a:pPr>
            <a:endParaRPr b="0" lang="en-US" sz="1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79640" y="17479800"/>
            <a:ext cx="35645760" cy="9520560"/>
          </a:xfrm>
          <a:prstGeom prst="rect">
            <a:avLst/>
          </a:prstGeom>
          <a:noFill/>
          <a:ln w="0">
            <a:noFill/>
          </a:ln>
        </p:spPr>
        <p:txBody>
          <a:bodyPr lIns="384840" rIns="384840" tIns="192240" bIns="192240" anchor="t">
            <a:normAutofit/>
          </a:bodyPr>
          <a:p>
            <a:pPr indent="0">
              <a:spcBef>
                <a:spcPts val="3376"/>
              </a:spcBef>
              <a:buNone/>
              <a:tabLst>
                <a:tab algn="l" pos="3859200"/>
                <a:tab algn="l" pos="7718400"/>
              </a:tabLst>
            </a:pPr>
            <a:endParaRPr b="0" lang="en-US" sz="1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03B3-3B20-47F2-965A-6E292BCF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79640" y="1212480"/>
            <a:ext cx="35645760" cy="5040360"/>
          </a:xfrm>
          <a:prstGeom prst="rect">
            <a:avLst/>
          </a:prstGeom>
          <a:noFill/>
          <a:ln w="0">
            <a:noFill/>
          </a:ln>
        </p:spPr>
        <p:txBody>
          <a:bodyPr lIns="384840" rIns="384840" tIns="192240" bIns="192240" anchor="ctr">
            <a:noAutofit/>
          </a:bodyPr>
          <a:p>
            <a:pPr indent="0" algn="ctr">
              <a:buNone/>
              <a:tabLst>
                <a:tab algn="l" pos="0"/>
                <a:tab algn="l" pos="3859200"/>
                <a:tab algn="l" pos="7718400"/>
              </a:tabLst>
            </a:pPr>
            <a:r>
              <a:rPr b="0" lang="en-US" sz="18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79640" y="7054560"/>
            <a:ext cx="35645760" cy="19959480"/>
          </a:xfrm>
          <a:prstGeom prst="rect">
            <a:avLst/>
          </a:prstGeom>
          <a:noFill/>
          <a:ln w="0">
            <a:noFill/>
          </a:ln>
        </p:spPr>
        <p:txBody>
          <a:bodyPr lIns="384840" rIns="384840" tIns="192240" bIns="192240" anchor="t">
            <a:normAutofit/>
          </a:bodyPr>
          <a:p>
            <a:pPr marL="1447920" indent="-1447920">
              <a:spcBef>
                <a:spcPts val="3376"/>
              </a:spcBef>
              <a:buClr>
                <a:srgbClr val="000000"/>
              </a:buClr>
              <a:buFont typeface="Arial"/>
              <a:buChar char="•"/>
              <a:tabLst>
                <a:tab algn="l" pos="3859200"/>
                <a:tab algn="l" pos="7718400"/>
              </a:tabLst>
            </a:pPr>
            <a:r>
              <a:rPr b="0" lang="en-US" sz="1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3500" spc="-1" strike="noStrike">
              <a:solidFill>
                <a:srgbClr val="000000"/>
              </a:solidFill>
              <a:latin typeface="Arial"/>
            </a:endParaRPr>
          </a:p>
          <a:p>
            <a:pPr lvl="1" marL="3132000" indent="-1206360">
              <a:spcBef>
                <a:spcPts val="3376"/>
              </a:spcBef>
              <a:buClr>
                <a:srgbClr val="000000"/>
              </a:buClr>
              <a:buFont typeface="Arial"/>
              <a:buChar char="–"/>
              <a:tabLst>
                <a:tab algn="l" pos="3859200"/>
                <a:tab algn="l" pos="7718400"/>
              </a:tabLst>
            </a:pPr>
            <a:r>
              <a:rPr b="0" lang="en-US" sz="1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3500" spc="-1" strike="noStrike">
              <a:solidFill>
                <a:srgbClr val="000000"/>
              </a:solidFill>
              <a:latin typeface="Arial"/>
            </a:endParaRPr>
          </a:p>
          <a:p>
            <a:pPr lvl="2" marL="4821120" indent="-961920">
              <a:spcBef>
                <a:spcPts val="3376"/>
              </a:spcBef>
              <a:buClr>
                <a:srgbClr val="000000"/>
              </a:buClr>
              <a:buFont typeface="Arial"/>
              <a:buChar char="•"/>
              <a:tabLst>
                <a:tab algn="l" pos="3859200"/>
                <a:tab algn="l" pos="7718400"/>
              </a:tabLst>
            </a:pPr>
            <a:r>
              <a:rPr b="0" lang="en-US" sz="1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3500" spc="-1" strike="noStrike">
              <a:solidFill>
                <a:srgbClr val="000000"/>
              </a:solidFill>
              <a:latin typeface="Arial"/>
            </a:endParaRPr>
          </a:p>
          <a:p>
            <a:pPr lvl="3" marL="6748560" indent="-963720">
              <a:spcBef>
                <a:spcPts val="3376"/>
              </a:spcBef>
              <a:buClr>
                <a:srgbClr val="000000"/>
              </a:buClr>
              <a:buFont typeface="Arial"/>
              <a:buChar char="–"/>
              <a:tabLst>
                <a:tab algn="l" pos="3859200"/>
                <a:tab algn="l" pos="7718400"/>
              </a:tabLst>
            </a:pPr>
            <a:r>
              <a:rPr b="0" lang="en-US" sz="1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3500" spc="-1" strike="noStrike">
              <a:solidFill>
                <a:srgbClr val="000000"/>
              </a:solidFill>
              <a:latin typeface="Arial"/>
            </a:endParaRPr>
          </a:p>
          <a:p>
            <a:pPr lvl="4" marL="8666280" indent="-955800">
              <a:spcBef>
                <a:spcPts val="3376"/>
              </a:spcBef>
              <a:buClr>
                <a:srgbClr val="000000"/>
              </a:buClr>
              <a:buFont typeface="Arial"/>
              <a:buChar char="»"/>
              <a:tabLst>
                <a:tab algn="l" pos="3859200"/>
                <a:tab algn="l" pos="7718400"/>
              </a:tabLst>
            </a:pPr>
            <a:r>
              <a:rPr b="0" lang="en-US" sz="1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3500" spc="-1" strike="noStrike">
              <a:solidFill>
                <a:srgbClr val="000000"/>
              </a:solidFill>
              <a:latin typeface="Arial"/>
            </a:endParaRPr>
          </a:p>
          <a:p>
            <a:pPr lvl="5" marL="8666280" indent="-955800">
              <a:spcBef>
                <a:spcPts val="3376"/>
              </a:spcBef>
              <a:buClr>
                <a:srgbClr val="000000"/>
              </a:buClr>
              <a:buFont typeface="Arial"/>
              <a:buChar char="»"/>
              <a:tabLst>
                <a:tab algn="l" pos="3859200"/>
                <a:tab algn="l" pos="7718400"/>
              </a:tabLst>
            </a:pPr>
            <a:r>
              <a:rPr b="0" lang="en-US" sz="1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3500" spc="-1" strike="noStrike">
              <a:solidFill>
                <a:srgbClr val="000000"/>
              </a:solidFill>
              <a:latin typeface="Arial"/>
            </a:endParaRPr>
          </a:p>
          <a:p>
            <a:pPr lvl="6" marL="8666280" indent="-955800">
              <a:spcBef>
                <a:spcPts val="3376"/>
              </a:spcBef>
              <a:buClr>
                <a:srgbClr val="000000"/>
              </a:buClr>
              <a:buFont typeface="Arial"/>
              <a:buChar char="»"/>
              <a:tabLst>
                <a:tab algn="l" pos="3859200"/>
                <a:tab algn="l" pos="7718400"/>
              </a:tabLst>
            </a:pPr>
            <a:r>
              <a:rPr b="0" lang="en-US" sz="1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979280" y="27540000"/>
            <a:ext cx="9239400" cy="2100240"/>
          </a:xfrm>
          <a:prstGeom prst="rect">
            <a:avLst/>
          </a:prstGeom>
          <a:noFill/>
          <a:ln w="0">
            <a:noFill/>
          </a:ln>
        </p:spPr>
        <p:txBody>
          <a:bodyPr lIns="384840" rIns="384840" tIns="192240" bIns="192240" anchor="t">
            <a:noAutofit/>
          </a:bodyPr>
          <a:lstStyle>
            <a:lvl1pPr indent="0">
              <a:buNone/>
              <a:tabLst>
                <a:tab algn="l" pos="0"/>
                <a:tab algn="l" pos="3859200"/>
                <a:tab algn="l" pos="7718400"/>
              </a:tabLst>
              <a:defRPr b="0" lang="en-US" sz="6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859200"/>
                <a:tab algn="l" pos="771840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3528800" y="27540000"/>
            <a:ext cx="12547440" cy="2100240"/>
          </a:xfrm>
          <a:prstGeom prst="rect">
            <a:avLst/>
          </a:prstGeom>
          <a:noFill/>
          <a:ln w="0">
            <a:noFill/>
          </a:ln>
        </p:spPr>
        <p:txBody>
          <a:bodyPr lIns="384840" rIns="384840" tIns="192240" bIns="192240" anchor="t">
            <a:noAutofit/>
          </a:bodyPr>
          <a:lstStyle>
            <a:lvl1pPr indent="0" algn="ctr">
              <a:buNone/>
              <a:tabLst>
                <a:tab algn="l" pos="0"/>
                <a:tab algn="l" pos="3859200"/>
                <a:tab algn="l" pos="7718400"/>
              </a:tabLst>
              <a:defRPr b="0" lang="en-US" sz="6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859200"/>
                <a:tab algn="l" pos="771840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8385640" y="27540000"/>
            <a:ext cx="9239400" cy="2100240"/>
          </a:xfrm>
          <a:prstGeom prst="rect">
            <a:avLst/>
          </a:prstGeom>
          <a:noFill/>
          <a:ln w="0">
            <a:noFill/>
          </a:ln>
        </p:spPr>
        <p:txBody>
          <a:bodyPr lIns="384840" rIns="384840" tIns="192240" bIns="192240" anchor="t">
            <a:noAutofit/>
          </a:bodyPr>
          <a:lstStyle>
            <a:lvl1pPr indent="0" algn="r">
              <a:buNone/>
              <a:tabLst>
                <a:tab algn="l" pos="0"/>
                <a:tab algn="l" pos="3859200"/>
                <a:tab algn="l" pos="7718400"/>
              </a:tabLst>
              <a:defRPr b="0" lang="en-US" sz="6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859200"/>
                <a:tab algn="l" pos="7718400"/>
              </a:tabLst>
            </a:pPr>
            <a:fld id="{4C4D41EC-2BC0-40DE-BF80-6853680B510C}" type="slidenum">
              <a:rPr b="0" lang="en-US" sz="6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3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jpeg"/><Relationship Id="rId11" Type="http://schemas.openxmlformats.org/officeDocument/2006/relationships/image" Target="../media/image9.jpeg"/><Relationship Id="rId12" Type="http://schemas.openxmlformats.org/officeDocument/2006/relationships/image" Target="../media/image6.jpeg"/><Relationship Id="rId13" Type="http://schemas.openxmlformats.org/officeDocument/2006/relationships/image" Target="../media/image10.jpeg"/><Relationship Id="rId14" Type="http://schemas.openxmlformats.org/officeDocument/2006/relationships/image" Target="../media/image11.jpe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504720" y="21313800"/>
            <a:ext cx="10369080" cy="4968360"/>
            <a:chOff x="-504720" y="21313800"/>
            <a:chExt cx="10369080" cy="496836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-504720" y="21313800"/>
              <a:ext cx="10369080" cy="49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564120" y="22156560"/>
              <a:ext cx="1307160" cy="1747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412400" y="22156560"/>
              <a:ext cx="1306440" cy="1747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3"/>
            <p:cNvSpPr/>
            <p:nvPr/>
          </p:nvSpPr>
          <p:spPr>
            <a:xfrm>
              <a:off x="5659200" y="21687480"/>
              <a:ext cx="1387800" cy="538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marL="536040" indent="-536040"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200" spc="-1" strike="noStrike">
                  <a:solidFill>
                    <a:srgbClr val="000000"/>
                  </a:solidFill>
                  <a:latin typeface="Arial"/>
                </a:rPr>
                <a:t>3М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536040" indent="-536040"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Arial"/>
                </a:rPr>
                <a:t>refl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993840" y="22156560"/>
              <a:ext cx="1306440" cy="1747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3"/>
            <p:cNvSpPr/>
            <p:nvPr/>
          </p:nvSpPr>
          <p:spPr>
            <a:xfrm>
              <a:off x="568080" y="22627440"/>
              <a:ext cx="1307160" cy="339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0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ZnWO</a:t>
              </a:r>
              <a:r>
                <a:rPr b="1" lang="en-GB" sz="20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3"/>
            <p:cNvSpPr/>
            <p:nvPr/>
          </p:nvSpPr>
          <p:spPr>
            <a:xfrm>
              <a:off x="4060440" y="22627440"/>
              <a:ext cx="1108440" cy="530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609480" indent="-6094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ZnWO</a:t>
              </a:r>
              <a:r>
                <a:rPr b="1" lang="en-GB" sz="20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3"/>
            <p:cNvSpPr/>
            <p:nvPr/>
          </p:nvSpPr>
          <p:spPr>
            <a:xfrm>
              <a:off x="7461000" y="22638960"/>
              <a:ext cx="1137600" cy="519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ZnWO</a:t>
              </a:r>
              <a:r>
                <a:rPr b="1" lang="en-GB" sz="20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3"/>
            <p:cNvSpPr/>
            <p:nvPr/>
          </p:nvSpPr>
          <p:spPr>
            <a:xfrm>
              <a:off x="515880" y="24179760"/>
              <a:ext cx="1307160" cy="33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7000"/>
            </a:bodyPr>
            <a:p>
              <a:pPr marL="408240" indent="-408240"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PM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3"/>
            <p:cNvSpPr/>
            <p:nvPr/>
          </p:nvSpPr>
          <p:spPr>
            <a:xfrm>
              <a:off x="4026240" y="24179760"/>
              <a:ext cx="1307160" cy="33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7000"/>
            </a:bodyPr>
            <a:p>
              <a:pPr marL="408240" indent="-408240"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PM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3"/>
            <p:cNvSpPr/>
            <p:nvPr/>
          </p:nvSpPr>
          <p:spPr>
            <a:xfrm>
              <a:off x="7455960" y="24249600"/>
              <a:ext cx="1306440" cy="33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6000"/>
            </a:bodyPr>
            <a:p>
              <a:pPr marL="402120" indent="-402120"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PM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2065680" y="21953160"/>
              <a:ext cx="1307160" cy="33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7000"/>
            </a:bodyPr>
            <a:p>
              <a:pPr marL="408240" indent="-408240"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tefl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3"/>
            <p:cNvSpPr/>
            <p:nvPr/>
          </p:nvSpPr>
          <p:spPr>
            <a:xfrm>
              <a:off x="2067480" y="23030640"/>
              <a:ext cx="1549800" cy="406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7000"/>
            </a:bodyPr>
            <a:p>
              <a:pPr marL="347400" indent="-347400"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optic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7400" indent="-347400"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contac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3"/>
            <p:cNvSpPr/>
            <p:nvPr/>
          </p:nvSpPr>
          <p:spPr>
            <a:xfrm>
              <a:off x="5742000" y="23230080"/>
              <a:ext cx="1223640" cy="177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No optical contact (plex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cube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417000" y="23429520"/>
              <a:ext cx="1067400" cy="48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9433080" y="4392720"/>
            <a:ext cx="1072980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6240" rIns="336240" tIns="336240" bIns="33624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Measurement of transparency of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ZnWO</a:t>
            </a:r>
            <a:r>
              <a:rPr b="1" lang="en-US" sz="4000" spc="-1" strike="noStrike" baseline="-25000">
                <a:solidFill>
                  <a:srgbClr val="333399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7640" y="2448000"/>
            <a:ext cx="37800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6240" rIns="336240" tIns="336240" bIns="33624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GB" sz="40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.M.</a:t>
            </a:r>
            <a:r>
              <a:rPr b="1" lang="en-GB" sz="4000" spc="-1" strike="noStrike" u="sng">
                <a:solidFill>
                  <a:srgbClr val="000000"/>
                </a:solidFill>
                <a:uFillTx/>
                <a:latin typeface="Arial"/>
              </a:rPr>
              <a:t>Mokina</a:t>
            </a:r>
            <a:r>
              <a:rPr b="1" lang="uk-UA" sz="4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Danevich</a:t>
            </a:r>
            <a:r>
              <a:rPr b="1" lang="uk-UA" sz="4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Kobychev</a:t>
            </a:r>
            <a:r>
              <a:rPr b="1" lang="uk-UA" sz="4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Kraus</a:t>
            </a:r>
            <a:r>
              <a:rPr b="1" lang="uk-UA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Mikhailik</a:t>
            </a:r>
            <a:r>
              <a:rPr b="1" lang="uk-UA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Nagornaya</a:t>
            </a:r>
            <a:r>
              <a:rPr b="1" lang="uk-UA" sz="4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1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stitute for Nuclear Research, MSP 03680 Kyiv, Ukra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i="1" lang="uk-UA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iversity of Oxford, Department of Physics, Keble Road, Oxford OX1 3RH, 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i="1" lang="uk-UA" sz="24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titute for Single Crystals, 61001 Kharkiv, Ukra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36720" y="-576360"/>
            <a:ext cx="36796680" cy="345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360" rIns="504360" tIns="1008720" bIns="50436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Arial"/>
              </a:rPr>
              <a:t>Optimization of light collection from crystal scintillators to search for dark matter and 2</a:t>
            </a:r>
            <a:r>
              <a:rPr b="1" lang="en-US" sz="88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n-US" sz="8800" spc="-1" strike="noStrike">
                <a:solidFill>
                  <a:srgbClr val="333399"/>
                </a:solidFill>
                <a:latin typeface="Arial"/>
              </a:rPr>
              <a:t> decay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39605040" cy="30243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0" y="7201080"/>
            <a:ext cx="9288360" cy="22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6240" rIns="336240" tIns="336240" bIns="336240" anchor="t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Light output and energy resolution for dark matter and 2</a:t>
            </a:r>
            <a:r>
              <a:rPr b="1" lang="en-US" sz="40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decay are importan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866160" y="18133920"/>
            <a:ext cx="9072720" cy="187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6240" rIns="336240" tIns="336240" bIns="33624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Energy resolution and relative pulse amplitude for 662 keV </a:t>
            </a:r>
            <a:r>
              <a:rPr b="1" lang="en-GB" sz="4000" spc="-1" strike="noStrike" baseline="30000">
                <a:solidFill>
                  <a:srgbClr val="333399"/>
                </a:solidFill>
                <a:latin typeface="Arial"/>
              </a:rPr>
              <a:t>137</a:t>
            </a: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802520" y="5761080"/>
            <a:ext cx="8640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3859200"/>
                <a:tab algn="l" pos="771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Energy resolution and relative pulse amplitude for 662 keV </a:t>
            </a:r>
            <a:r>
              <a:rPr b="1" lang="en-GB" sz="4000" spc="-1" strike="noStrike" baseline="30000">
                <a:solidFill>
                  <a:srgbClr val="333399"/>
                </a:solidFill>
                <a:latin typeface="Arial"/>
              </a:rPr>
              <a:t>137</a:t>
            </a: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586520" y="17054640"/>
            <a:ext cx="9361440" cy="18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Energy resolution and relative pulse amplitude in conditions similar           to scintillation bolome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530880" y="4248000"/>
            <a:ext cx="734544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3859200"/>
                <a:tab algn="l" pos="771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Preliminary simulation of relative pulse amplitude by ZEMA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035600" y="20378880"/>
            <a:ext cx="6173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859200"/>
                <a:tab algn="l" pos="7718400"/>
              </a:tabLst>
            </a:pPr>
            <a:r>
              <a:rPr b="1" lang="en-US" sz="4000" spc="-1" strike="noStrike" baseline="-25000">
                <a:solidFill>
                  <a:srgbClr val="000096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29811600" y="21531240"/>
            <a:ext cx="8964720" cy="84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859200"/>
                <a:tab algn="l" pos="771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st energy resolution and relative pulse amplitude was measured for hexagonal crystal with diffused side and top surfaces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tical contact and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reflector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859200"/>
                <a:tab algn="l" pos="771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859200"/>
                <a:tab algn="l" pos="771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measurement without optical contact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ndition of scintillating bolomete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st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lative pulse amplitude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s registered with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exagona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rystal,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iffused sid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polished top surfaces, and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M reflector 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und the crystal with the air gap with thickness 5 mm betwee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859200"/>
                <a:tab algn="l" pos="771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859200"/>
                <a:tab algn="l" pos="771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vious results of simulation by ZEMAX reasonably describe the experimental data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imulation by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ANT4 is in progress now.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459240" y="14112720"/>
            <a:ext cx="6842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3859200"/>
                <a:tab algn="l" pos="771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Plans</a:t>
            </a:r>
            <a:r>
              <a:rPr b="1" lang="en-US" sz="4000" spc="-1" strike="noStrike">
                <a:solidFill>
                  <a:srgbClr val="00009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30027600" y="15122520"/>
            <a:ext cx="8640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3859200"/>
                <a:tab algn="l" pos="771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vestigations of other shapes of cryst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821400" y="16203600"/>
            <a:ext cx="2590560" cy="180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132680" y="15554160"/>
            <a:ext cx="3456000" cy="3168720"/>
            <a:chOff x="34132680" y="15554160"/>
            <a:chExt cx="3456000" cy="3168720"/>
          </a:xfrm>
        </p:grpSpPr>
        <p:sp>
          <p:nvSpPr>
            <p:cNvPr id="72" name=""/>
            <p:cNvSpPr/>
            <p:nvPr/>
          </p:nvSpPr>
          <p:spPr>
            <a:xfrm>
              <a:off x="34853400" y="16201800"/>
              <a:ext cx="2016360" cy="18003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204320" y="15554160"/>
              <a:ext cx="1224000" cy="122400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132680" y="17354520"/>
              <a:ext cx="1224000" cy="122400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6365040" y="15606720"/>
              <a:ext cx="1223640" cy="122400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6293400" y="17498880"/>
              <a:ext cx="1224000" cy="122400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Rectangle 3"/>
          <p:cNvSpPr/>
          <p:nvPr/>
        </p:nvSpPr>
        <p:spPr>
          <a:xfrm>
            <a:off x="30170520" y="18434160"/>
            <a:ext cx="80661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1143720" indent="-1143720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3859200"/>
                <a:tab algn="l" pos="771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val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ctahed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316320" y="19442160"/>
            <a:ext cx="763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minimal lost of initial crystal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28587600" y="6119640"/>
            <a:ext cx="11305800" cy="8210520"/>
            <a:chOff x="28587600" y="6119640"/>
            <a:chExt cx="11305800" cy="8210520"/>
          </a:xfrm>
        </p:grpSpPr>
        <p:graphicFrame>
          <p:nvGraphicFramePr>
            <p:cNvPr id="80" name=""/>
            <p:cNvGraphicFramePr/>
            <p:nvPr/>
          </p:nvGraphicFramePr>
          <p:xfrm>
            <a:off x="28587600" y="6119640"/>
            <a:ext cx="10964160" cy="82105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8587600" y="6119640"/>
                      <a:ext cx="10964160" cy="8210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2" name=""/>
            <p:cNvSpPr/>
            <p:nvPr/>
          </p:nvSpPr>
          <p:spPr>
            <a:xfrm>
              <a:off x="30643920" y="10594440"/>
              <a:ext cx="171468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periment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2870160" y="6442200"/>
              <a:ext cx="325584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-Lambertian reflection 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-bulk scattering = 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 flipV="1">
              <a:off x="36919440" y="10800000"/>
              <a:ext cx="1198800" cy="20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 flipV="1">
              <a:off x="36896760" y="9971640"/>
              <a:ext cx="1285920" cy="72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31242600" y="10282680"/>
              <a:ext cx="428400" cy="41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1414320" y="11008440"/>
              <a:ext cx="342000" cy="72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8178720" y="10697040"/>
              <a:ext cx="171468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imul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1620240" y="9972000"/>
              <a:ext cx="318960" cy="349920"/>
            </a:xfrm>
            <a:prstGeom prst="octagon">
              <a:avLst>
                <a:gd name="adj" fmla="val 29287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4114680" y="8595000"/>
              <a:ext cx="319320" cy="349560"/>
            </a:xfrm>
            <a:prstGeom prst="octagon">
              <a:avLst>
                <a:gd name="adj" fmla="val 29287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6628560" y="9541800"/>
              <a:ext cx="318960" cy="349920"/>
            </a:xfrm>
            <a:prstGeom prst="octagon">
              <a:avLst>
                <a:gd name="adj" fmla="val 29287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597560" y="9347400"/>
              <a:ext cx="318960" cy="3499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4145280" y="9077400"/>
              <a:ext cx="318960" cy="3499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6639720" y="9725040"/>
              <a:ext cx="318960" cy="3499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1631760" y="11735640"/>
              <a:ext cx="256320" cy="3110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4154640" y="9972000"/>
              <a:ext cx="256680" cy="3110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6651240" y="10269720"/>
              <a:ext cx="256320" cy="3106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148880" y="10946880"/>
              <a:ext cx="256320" cy="3110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6639720" y="10628640"/>
              <a:ext cx="256680" cy="3110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37517400" y="6048360"/>
            <a:ext cx="1284120" cy="2730240"/>
            <a:chOff x="37517400" y="6048360"/>
            <a:chExt cx="1284120" cy="2730240"/>
          </a:xfrm>
        </p:grpSpPr>
        <p:pic>
          <p:nvPicPr>
            <p:cNvPr id="101" name="" descr=""/>
            <p:cNvPicPr/>
            <p:nvPr/>
          </p:nvPicPr>
          <p:blipFill>
            <a:blip r:embed="rId4"/>
            <a:stretch/>
          </p:blipFill>
          <p:spPr>
            <a:xfrm>
              <a:off x="37517400" y="6048360"/>
              <a:ext cx="1284120" cy="2036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2" name=""/>
            <p:cNvGrpSpPr/>
            <p:nvPr/>
          </p:nvGrpSpPr>
          <p:grpSpPr>
            <a:xfrm>
              <a:off x="37860480" y="8079840"/>
              <a:ext cx="704880" cy="698760"/>
              <a:chOff x="37860480" y="8079840"/>
              <a:chExt cx="704880" cy="698760"/>
            </a:xfrm>
          </p:grpSpPr>
          <p:sp>
            <p:nvSpPr>
              <p:cNvPr id="103" name=""/>
              <p:cNvSpPr/>
              <p:nvPr/>
            </p:nvSpPr>
            <p:spPr>
              <a:xfrm>
                <a:off x="37860480" y="8079840"/>
                <a:ext cx="704880" cy="69876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7931040" y="8152560"/>
                <a:ext cx="564120" cy="551520"/>
              </a:xfrm>
              <a:prstGeom prst="ellipse">
                <a:avLst/>
              </a:prstGeom>
              <a:solidFill>
                <a:srgbClr val="ffff99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7956600" y="8189280"/>
                <a:ext cx="529200" cy="478800"/>
              </a:xfrm>
              <a:prstGeom prst="hexagon">
                <a:avLst>
                  <a:gd name="adj" fmla="val 27632"/>
                  <a:gd name="vf" fmla="val 115470"/>
                </a:avLst>
              </a:prstGeom>
              <a:solidFill>
                <a:srgbClr val="ffff99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8036880" y="8338680"/>
                <a:ext cx="34920" cy="36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8187720" y="8612280"/>
                <a:ext cx="34560" cy="36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8374920" y="8334720"/>
                <a:ext cx="34920" cy="36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37884960" y="6266160"/>
              <a:ext cx="588240" cy="871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0018520" y="19647000"/>
            <a:ext cx="9000720" cy="9002160"/>
            <a:chOff x="20018520" y="19647000"/>
            <a:chExt cx="9000720" cy="9002160"/>
          </a:xfrm>
        </p:grpSpPr>
        <p:pic>
          <p:nvPicPr>
            <p:cNvPr id="111" name="" descr=""/>
            <p:cNvPicPr/>
            <p:nvPr/>
          </p:nvPicPr>
          <p:blipFill>
            <a:blip r:embed="rId5"/>
            <a:stretch/>
          </p:blipFill>
          <p:spPr>
            <a:xfrm>
              <a:off x="20018520" y="19647000"/>
              <a:ext cx="9000720" cy="900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25050600" y="23374440"/>
              <a:ext cx="340920" cy="38448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5070760" y="21200760"/>
              <a:ext cx="272880" cy="352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5050600" y="25811280"/>
              <a:ext cx="340920" cy="38988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5070760" y="27963720"/>
              <a:ext cx="272880" cy="358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9946880" y="28865520"/>
            <a:ext cx="9650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61800">
              <a:lnSpc>
                <a:spcPct val="100000"/>
              </a:lnSpc>
              <a:tabLst>
                <a:tab algn="l" pos="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all surface polish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 2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ffused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sid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r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fa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1800">
              <a:lnSpc>
                <a:spcPct val="100000"/>
              </a:lnSpc>
              <a:tabLst>
                <a:tab algn="l" pos="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ffused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sid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top sur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fac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; 4.all surface diff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8011600" y="17846640"/>
            <a:ext cx="1573200" cy="3963960"/>
            <a:chOff x="28011600" y="17846640"/>
            <a:chExt cx="1573200" cy="3963960"/>
          </a:xfrm>
        </p:grpSpPr>
        <p:pic>
          <p:nvPicPr>
            <p:cNvPr id="118" name="" descr=""/>
            <p:cNvPicPr/>
            <p:nvPr/>
          </p:nvPicPr>
          <p:blipFill>
            <a:blip r:embed="rId6"/>
            <a:stretch/>
          </p:blipFill>
          <p:spPr>
            <a:xfrm>
              <a:off x="28011600" y="17846640"/>
              <a:ext cx="1573200" cy="25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28462320" y="18116640"/>
              <a:ext cx="720720" cy="1079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8227240" y="18351360"/>
              <a:ext cx="1152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ZnWO</a:t>
              </a:r>
              <a:r>
                <a:rPr b="0" lang="en-GB" sz="16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28246320" y="20659680"/>
              <a:ext cx="1224000" cy="1150920"/>
              <a:chOff x="28246320" y="20659680"/>
              <a:chExt cx="1224000" cy="1150920"/>
            </a:xfrm>
          </p:grpSpPr>
          <p:grpSp>
            <p:nvGrpSpPr>
              <p:cNvPr id="122" name=""/>
              <p:cNvGrpSpPr/>
              <p:nvPr/>
            </p:nvGrpSpPr>
            <p:grpSpPr>
              <a:xfrm>
                <a:off x="28432080" y="20797920"/>
                <a:ext cx="863640" cy="865080"/>
                <a:chOff x="28432080" y="20797920"/>
                <a:chExt cx="863640" cy="86508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28432080" y="20797920"/>
                  <a:ext cx="863640" cy="86508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28518480" y="20888280"/>
                  <a:ext cx="691200" cy="682920"/>
                </a:xfrm>
                <a:prstGeom prst="ellipse">
                  <a:avLst/>
                </a:prstGeom>
                <a:solidFill>
                  <a:srgbClr val="ffff99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28550160" y="20933280"/>
                  <a:ext cx="648360" cy="592560"/>
                </a:xfrm>
                <a:prstGeom prst="hexagon">
                  <a:avLst>
                    <a:gd name="adj" fmla="val 27354"/>
                    <a:gd name="vf" fmla="val 115470"/>
                  </a:avLst>
                </a:prstGeom>
                <a:solidFill>
                  <a:srgbClr val="ffff99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28648080" y="21118320"/>
                  <a:ext cx="4284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28832760" y="21457080"/>
                  <a:ext cx="424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29062080" y="21113280"/>
                  <a:ext cx="4284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" name=""/>
              <p:cNvSpPr/>
              <p:nvPr/>
            </p:nvSpPr>
            <p:spPr>
              <a:xfrm>
                <a:off x="28246320" y="20659680"/>
                <a:ext cx="1224000" cy="1150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20162880" y="7488360"/>
            <a:ext cx="8711640" cy="9145080"/>
            <a:chOff x="20162880" y="7488360"/>
            <a:chExt cx="8711640" cy="9145080"/>
          </a:xfrm>
        </p:grpSpPr>
        <p:pic>
          <p:nvPicPr>
            <p:cNvPr id="131" name="" descr=""/>
            <p:cNvPicPr/>
            <p:nvPr/>
          </p:nvPicPr>
          <p:blipFill>
            <a:blip r:embed="rId7"/>
            <a:stretch/>
          </p:blipFill>
          <p:spPr>
            <a:xfrm>
              <a:off x="20162880" y="7488360"/>
              <a:ext cx="8711640" cy="914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25045920" y="9604080"/>
              <a:ext cx="272160" cy="370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991920" y="11583360"/>
              <a:ext cx="339480" cy="40356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5043400" y="13636800"/>
              <a:ext cx="272160" cy="370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27939960" y="6840360"/>
            <a:ext cx="1789200" cy="3924360"/>
            <a:chOff x="27939960" y="6840360"/>
            <a:chExt cx="1789200" cy="3924360"/>
          </a:xfrm>
        </p:grpSpPr>
        <p:pic>
          <p:nvPicPr>
            <p:cNvPr id="136" name="" descr=""/>
            <p:cNvPicPr/>
            <p:nvPr/>
          </p:nvPicPr>
          <p:blipFill>
            <a:blip r:embed="rId8"/>
            <a:stretch/>
          </p:blipFill>
          <p:spPr>
            <a:xfrm>
              <a:off x="27939960" y="6840360"/>
              <a:ext cx="1789200" cy="254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28441800" y="7099200"/>
              <a:ext cx="720720" cy="1079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8200240" y="7343640"/>
              <a:ext cx="1152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ZnWO</a:t>
              </a:r>
              <a:r>
                <a:rPr b="0" lang="en-GB" sz="16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28162440" y="9639360"/>
              <a:ext cx="1224000" cy="1125360"/>
              <a:chOff x="28162440" y="9639360"/>
              <a:chExt cx="1224000" cy="112536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28300320" y="9791640"/>
                <a:ext cx="935280" cy="792360"/>
                <a:chOff x="28300320" y="9791640"/>
                <a:chExt cx="935280" cy="79236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28300320" y="9791640"/>
                  <a:ext cx="935280" cy="79236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28393920" y="9874440"/>
                  <a:ext cx="748440" cy="625680"/>
                </a:xfrm>
                <a:prstGeom prst="ellipse">
                  <a:avLst/>
                </a:prstGeom>
                <a:solidFill>
                  <a:srgbClr val="ffff99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28427760" y="9915480"/>
                  <a:ext cx="702360" cy="542880"/>
                </a:xfrm>
                <a:prstGeom prst="hexagon">
                  <a:avLst>
                    <a:gd name="adj" fmla="val 32344"/>
                    <a:gd name="vf" fmla="val 115470"/>
                  </a:avLst>
                </a:prstGeom>
                <a:solidFill>
                  <a:srgbClr val="ffff99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" name=""/>
              <p:cNvSpPr/>
              <p:nvPr/>
            </p:nvSpPr>
            <p:spPr>
              <a:xfrm>
                <a:off x="28162440" y="9639360"/>
                <a:ext cx="1224000" cy="11253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" name=""/>
          <p:cNvGrpSpPr/>
          <p:nvPr/>
        </p:nvGrpSpPr>
        <p:grpSpPr>
          <a:xfrm>
            <a:off x="9433080" y="19935720"/>
            <a:ext cx="9361080" cy="8929440"/>
            <a:chOff x="9433080" y="19935720"/>
            <a:chExt cx="9361080" cy="8929440"/>
          </a:xfrm>
        </p:grpSpPr>
        <p:pic>
          <p:nvPicPr>
            <p:cNvPr id="146" name="" descr=""/>
            <p:cNvPicPr/>
            <p:nvPr/>
          </p:nvPicPr>
          <p:blipFill>
            <a:blip r:embed="rId9"/>
            <a:stretch/>
          </p:blipFill>
          <p:spPr>
            <a:xfrm>
              <a:off x="9433080" y="19935720"/>
              <a:ext cx="9361080" cy="892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4621760" y="21997440"/>
              <a:ext cx="304560" cy="363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4561280" y="23818680"/>
              <a:ext cx="380880" cy="39528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4601240" y="26364600"/>
              <a:ext cx="304920" cy="363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18214920" y="19143720"/>
            <a:ext cx="1876320" cy="4029120"/>
            <a:chOff x="18214920" y="19143720"/>
            <a:chExt cx="1876320" cy="4029120"/>
          </a:xfrm>
        </p:grpSpPr>
        <p:pic>
          <p:nvPicPr>
            <p:cNvPr id="151" name="" descr=""/>
            <p:cNvPicPr/>
            <p:nvPr/>
          </p:nvPicPr>
          <p:blipFill>
            <a:blip r:embed="rId10"/>
            <a:stretch/>
          </p:blipFill>
          <p:spPr>
            <a:xfrm>
              <a:off x="18214920" y="19143720"/>
              <a:ext cx="1876320" cy="26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18705240" y="19420200"/>
              <a:ext cx="727200" cy="11365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672120" y="19407240"/>
              <a:ext cx="0" cy="1143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470600" y="19404360"/>
              <a:ext cx="0" cy="1143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18513360" y="22021920"/>
              <a:ext cx="1223640" cy="1150920"/>
              <a:chOff x="18513360" y="22021920"/>
              <a:chExt cx="1223640" cy="1150920"/>
            </a:xfrm>
          </p:grpSpPr>
          <p:sp>
            <p:nvSpPr>
              <p:cNvPr id="156" name=""/>
              <p:cNvSpPr/>
              <p:nvPr/>
            </p:nvSpPr>
            <p:spPr>
              <a:xfrm>
                <a:off x="18717840" y="22241160"/>
                <a:ext cx="792360" cy="717480"/>
              </a:xfrm>
              <a:prstGeom prst="ellipse">
                <a:avLst/>
              </a:prstGeom>
              <a:solidFill>
                <a:srgbClr val="ffff99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8763920" y="22330080"/>
                <a:ext cx="698760" cy="538200"/>
              </a:xfrm>
              <a:prstGeom prst="hexagon">
                <a:avLst>
                  <a:gd name="adj" fmla="val 32458"/>
                  <a:gd name="vf" fmla="val 115470"/>
                </a:avLst>
              </a:prstGeom>
              <a:solidFill>
                <a:srgbClr val="ffff99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8513360" y="22021920"/>
                <a:ext cx="1223640" cy="1150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"/>
          <p:cNvSpPr/>
          <p:nvPr/>
        </p:nvSpPr>
        <p:spPr>
          <a:xfrm>
            <a:off x="10152000" y="29009880"/>
            <a:ext cx="9650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61800">
              <a:lnSpc>
                <a:spcPct val="100000"/>
              </a:lnSpc>
              <a:tabLst>
                <a:tab algn="l" pos="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all surface polish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 2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ffused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sid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r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fa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1800">
              <a:lnSpc>
                <a:spcPct val="100000"/>
              </a:lnSpc>
              <a:tabLst>
                <a:tab algn="l" pos="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ffused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sid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top sur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fac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; 4.all surface diff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1"/>
          <a:stretch/>
        </p:blipFill>
        <p:spPr>
          <a:xfrm>
            <a:off x="10080720" y="11809440"/>
            <a:ext cx="8232840" cy="6653160"/>
          </a:xfrm>
          <a:prstGeom prst="rect">
            <a:avLst/>
          </a:prstGeom>
          <a:ln w="0">
            <a:noFill/>
          </a:ln>
        </p:spPr>
      </p:pic>
      <p:grpSp>
        <p:nvGrpSpPr>
          <p:cNvPr id="161" name=""/>
          <p:cNvGrpSpPr/>
          <p:nvPr/>
        </p:nvGrpSpPr>
        <p:grpSpPr>
          <a:xfrm>
            <a:off x="18362520" y="12241080"/>
            <a:ext cx="1788840" cy="3924360"/>
            <a:chOff x="18362520" y="12241080"/>
            <a:chExt cx="1788840" cy="3924360"/>
          </a:xfrm>
        </p:grpSpPr>
        <p:grpSp>
          <p:nvGrpSpPr>
            <p:cNvPr id="162" name=""/>
            <p:cNvGrpSpPr/>
            <p:nvPr/>
          </p:nvGrpSpPr>
          <p:grpSpPr>
            <a:xfrm>
              <a:off x="18362520" y="12241080"/>
              <a:ext cx="1788840" cy="2549880"/>
              <a:chOff x="18362520" y="12241080"/>
              <a:chExt cx="1788840" cy="2549880"/>
            </a:xfrm>
          </p:grpSpPr>
          <p:pic>
            <p:nvPicPr>
              <p:cNvPr id="163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18362520" y="12241080"/>
                <a:ext cx="1788840" cy="254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4" name=""/>
              <p:cNvSpPr/>
              <p:nvPr/>
            </p:nvSpPr>
            <p:spPr>
              <a:xfrm>
                <a:off x="18881280" y="12557160"/>
                <a:ext cx="664920" cy="1008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8609840" y="12744360"/>
                <a:ext cx="11520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lvl="1" marL="1792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ZnWO</a:t>
                </a:r>
                <a:r>
                  <a:rPr b="0" lang="en-GB" sz="16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18640080" y="15014520"/>
              <a:ext cx="1224000" cy="1150920"/>
              <a:chOff x="18640080" y="15014520"/>
              <a:chExt cx="1224000" cy="115092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18783000" y="15192360"/>
                <a:ext cx="934920" cy="792000"/>
                <a:chOff x="18783000" y="15192360"/>
                <a:chExt cx="934920" cy="79200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18783000" y="15192360"/>
                  <a:ext cx="934920" cy="7920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8894240" y="15320880"/>
                  <a:ext cx="701640" cy="542880"/>
                </a:xfrm>
                <a:prstGeom prst="hexagon">
                  <a:avLst>
                    <a:gd name="adj" fmla="val 32311"/>
                    <a:gd name="vf" fmla="val 115470"/>
                  </a:avLst>
                </a:prstGeom>
                <a:solidFill>
                  <a:srgbClr val="ffff99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0" name=""/>
              <p:cNvSpPr/>
              <p:nvPr/>
            </p:nvSpPr>
            <p:spPr>
              <a:xfrm>
                <a:off x="18640080" y="15014520"/>
                <a:ext cx="1224000" cy="1150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"/>
          <p:cNvSpPr/>
          <p:nvPr/>
        </p:nvSpPr>
        <p:spPr>
          <a:xfrm>
            <a:off x="10009080" y="11088720"/>
            <a:ext cx="907272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6240" rIns="336240" tIns="336240" bIns="33624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Energy spectra of</a:t>
            </a:r>
            <a:r>
              <a:rPr b="1" lang="uk-UA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uk-UA" sz="4000" spc="-1" strike="noStrike" baseline="30000">
                <a:solidFill>
                  <a:srgbClr val="333399"/>
                </a:solidFill>
                <a:latin typeface="Arial"/>
              </a:rPr>
              <a:t>137</a:t>
            </a: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Cs and </a:t>
            </a:r>
            <a:r>
              <a:rPr b="1" lang="en-GB" sz="4000" spc="-1" strike="noStrike" baseline="30000">
                <a:solidFill>
                  <a:srgbClr val="333399"/>
                </a:solidFill>
                <a:latin typeface="Arial"/>
              </a:rPr>
              <a:t>207</a:t>
            </a: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B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10080720" y="5688000"/>
            <a:ext cx="8568720" cy="5832000"/>
            <a:chOff x="10080720" y="5688000"/>
            <a:chExt cx="8568720" cy="5832000"/>
          </a:xfrm>
        </p:grpSpPr>
        <p:pic>
          <p:nvPicPr>
            <p:cNvPr id="173" name="" descr=""/>
            <p:cNvPicPr/>
            <p:nvPr/>
          </p:nvPicPr>
          <p:blipFill>
            <a:blip r:embed="rId13"/>
            <a:stretch/>
          </p:blipFill>
          <p:spPr>
            <a:xfrm>
              <a:off x="10080720" y="5688000"/>
              <a:ext cx="8568720" cy="58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13434480" y="7970040"/>
              <a:ext cx="12394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ylind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99200" y="7362360"/>
              <a:ext cx="20422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hexahedr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1538720" y="7894080"/>
              <a:ext cx="546840" cy="533520"/>
            </a:xfrm>
            <a:prstGeom prst="hexagon">
              <a:avLst>
                <a:gd name="adj" fmla="val 25624"/>
                <a:gd name="vf" fmla="val 11547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3616640" y="8655840"/>
              <a:ext cx="511200" cy="531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2157920" y="7818840"/>
              <a:ext cx="655920" cy="53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12887640" y="8427960"/>
              <a:ext cx="728280" cy="37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576360" y="20664360"/>
            <a:ext cx="7704000" cy="93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6240" rIns="336240" tIns="336240" bIns="33624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Conditions of measu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144360" y="28227240"/>
            <a:ext cx="1008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asurement follow with different kind of surface of crystal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ll surface polished;      2. diffused  side surfac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diffused  side and top surfaces;   4. all surface diffu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503280" y="26282520"/>
            <a:ext cx="1944720" cy="1800360"/>
            <a:chOff x="503280" y="26282520"/>
            <a:chExt cx="1944720" cy="1800360"/>
          </a:xfrm>
        </p:grpSpPr>
        <p:sp>
          <p:nvSpPr>
            <p:cNvPr id="183" name=""/>
            <p:cNvSpPr/>
            <p:nvPr/>
          </p:nvSpPr>
          <p:spPr>
            <a:xfrm>
              <a:off x="503280" y="26282520"/>
              <a:ext cx="1944720" cy="1800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863640" y="26573040"/>
              <a:ext cx="1224000" cy="1150920"/>
              <a:chOff x="863640" y="26573040"/>
              <a:chExt cx="1224000" cy="1150920"/>
            </a:xfrm>
          </p:grpSpPr>
          <p:sp>
            <p:nvSpPr>
              <p:cNvPr id="185" name=""/>
              <p:cNvSpPr/>
              <p:nvPr/>
            </p:nvSpPr>
            <p:spPr>
              <a:xfrm>
                <a:off x="863640" y="26573040"/>
                <a:ext cx="1224000" cy="1150920"/>
              </a:xfrm>
              <a:prstGeom prst="ellipse">
                <a:avLst/>
              </a:prstGeom>
              <a:solidFill>
                <a:srgbClr val="ffff99"/>
              </a:solidFill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935280" y="26715960"/>
                <a:ext cx="1079280" cy="863640"/>
              </a:xfrm>
              <a:prstGeom prst="hexagon">
                <a:avLst>
                  <a:gd name="adj" fmla="val 31242"/>
                  <a:gd name="vf" fmla="val 115470"/>
                </a:avLst>
              </a:prstGeom>
              <a:solidFill>
                <a:srgbClr val="ffff99"/>
              </a:solidFill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7" name=""/>
          <p:cNvGrpSpPr/>
          <p:nvPr/>
        </p:nvGrpSpPr>
        <p:grpSpPr>
          <a:xfrm>
            <a:off x="3743280" y="26425440"/>
            <a:ext cx="1944720" cy="1800360"/>
            <a:chOff x="3743280" y="26425440"/>
            <a:chExt cx="1944720" cy="1800360"/>
          </a:xfrm>
        </p:grpSpPr>
        <p:grpSp>
          <p:nvGrpSpPr>
            <p:cNvPr id="188" name=""/>
            <p:cNvGrpSpPr/>
            <p:nvPr/>
          </p:nvGrpSpPr>
          <p:grpSpPr>
            <a:xfrm>
              <a:off x="3988080" y="26642880"/>
              <a:ext cx="1439640" cy="1366920"/>
              <a:chOff x="3988080" y="26642880"/>
              <a:chExt cx="1439640" cy="1366920"/>
            </a:xfrm>
          </p:grpSpPr>
          <p:sp>
            <p:nvSpPr>
              <p:cNvPr id="189" name=""/>
              <p:cNvSpPr/>
              <p:nvPr/>
            </p:nvSpPr>
            <p:spPr>
              <a:xfrm>
                <a:off x="3988080" y="26642880"/>
                <a:ext cx="1439640" cy="136692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132440" y="26785800"/>
                <a:ext cx="1152360" cy="1079640"/>
              </a:xfrm>
              <a:prstGeom prst="ellipse">
                <a:avLst/>
              </a:prstGeom>
              <a:solidFill>
                <a:srgbClr val="ffff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184640" y="26857440"/>
                <a:ext cx="1081080" cy="936720"/>
              </a:xfrm>
              <a:prstGeom prst="hexagon">
                <a:avLst>
                  <a:gd name="adj" fmla="val 28853"/>
                  <a:gd name="vf" fmla="val 115470"/>
                </a:avLst>
              </a:prstGeom>
              <a:solidFill>
                <a:srgbClr val="ffff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>
              <a:off x="3743280" y="26425440"/>
              <a:ext cx="1944720" cy="1800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6985080" y="26425440"/>
            <a:ext cx="1944720" cy="1800360"/>
            <a:chOff x="6985080" y="26425440"/>
            <a:chExt cx="1944720" cy="1800360"/>
          </a:xfrm>
        </p:grpSpPr>
        <p:grpSp>
          <p:nvGrpSpPr>
            <p:cNvPr id="194" name=""/>
            <p:cNvGrpSpPr/>
            <p:nvPr/>
          </p:nvGrpSpPr>
          <p:grpSpPr>
            <a:xfrm>
              <a:off x="7220160" y="26642880"/>
              <a:ext cx="1440000" cy="1366920"/>
              <a:chOff x="7220160" y="26642880"/>
              <a:chExt cx="1440000" cy="1366920"/>
            </a:xfrm>
          </p:grpSpPr>
          <p:sp>
            <p:nvSpPr>
              <p:cNvPr id="195" name=""/>
              <p:cNvSpPr/>
              <p:nvPr/>
            </p:nvSpPr>
            <p:spPr>
              <a:xfrm>
                <a:off x="7220160" y="26642880"/>
                <a:ext cx="1440000" cy="136692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364520" y="26785800"/>
                <a:ext cx="1152720" cy="1079640"/>
              </a:xfrm>
              <a:prstGeom prst="ellipse">
                <a:avLst/>
              </a:prstGeom>
              <a:solidFill>
                <a:srgbClr val="ffff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417080" y="26857440"/>
                <a:ext cx="1081080" cy="936720"/>
              </a:xfrm>
              <a:prstGeom prst="hexagon">
                <a:avLst>
                  <a:gd name="adj" fmla="val 28853"/>
                  <a:gd name="vf" fmla="val 115470"/>
                </a:avLst>
              </a:prstGeom>
              <a:solidFill>
                <a:srgbClr val="ffff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580520" y="27149400"/>
                <a:ext cx="71640" cy="71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888680" y="27684360"/>
                <a:ext cx="71280" cy="71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271000" y="27141480"/>
                <a:ext cx="71640" cy="71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6985080" y="26425440"/>
              <a:ext cx="1944720" cy="1800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503280" y="9577440"/>
            <a:ext cx="885816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achieve low energy threshold (most important for dark matter experiments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 improve energy resolution (2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xperiments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improve particle discrimination (both for DM and 2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xperiments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rimination of random coincidence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v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.M. Chernyak et al., Eur. Phys. J. C 72 – 2012 – 1989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4"/>
          <a:stretch/>
        </p:blipFill>
        <p:spPr>
          <a:xfrm>
            <a:off x="1295280" y="2087640"/>
            <a:ext cx="6048360" cy="523872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2"/>
          <p:cNvSpPr/>
          <p:nvPr/>
        </p:nvSpPr>
        <p:spPr>
          <a:xfrm>
            <a:off x="431640" y="15333840"/>
            <a:ext cx="822960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3859200"/>
                <a:tab algn="l" pos="771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Aims of investig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431640" y="16130520"/>
            <a:ext cx="913608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3859200"/>
                <a:tab algn="l" pos="771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ptimisation of light collection conditions from crystal scintillators to obtain higher light output and better energy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3859200"/>
                <a:tab algn="l" pos="771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fluence on energy resolution and light collection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859200"/>
                <a:tab algn="l" pos="771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ape of crysta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xagon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cylindric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859200"/>
                <a:tab algn="l" pos="771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rfa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lish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ffus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859200"/>
                <a:tab algn="l" pos="771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pe and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p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of ref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859200"/>
                <a:tab algn="l" pos="771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sence of optical contact with photo-det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4T09:46:24Z</dcterms:created>
  <dc:creator>Poda</dc:creator>
  <dc:description/>
  <dc:language>en-US</dc:language>
  <cp:lastModifiedBy>Customer</cp:lastModifiedBy>
  <dcterms:modified xsi:type="dcterms:W3CDTF">2012-11-14T13:06:17Z</dcterms:modified>
  <cp:revision>47</cp:revision>
  <dc:subject/>
  <dc:title>Слайд 1</dc:title>
</cp:coreProperties>
</file>