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3B3-E50C-4BF0-9DF9-C806396F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A60-1FE5-4716-8193-A61FFDB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93E-2BEA-41AC-903B-D1593F03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939-0229-4D91-B807-AEA306FD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73B-174D-4125-AD16-908B09C1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629-15B9-496F-AEDA-C02D064C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CE2-8F17-459C-B1B1-3364212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978-8405-481E-B53B-19EEF707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130-E164-4614-B84E-A33F264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4E3-44E1-4571-A60B-583F933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046-08CB-4813-B399-ADD9193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619-E5B4-4873-8048-743B1ACA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52D4-4A9B-4FEB-929B-6A7AD7B0C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редложения спутниковых и подземных экспериментов в рамках Программы космических исследований НАН Укра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30384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.В.Кобы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ЯИ НАН Укра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06C-A09E-4D92-996C-07125B9B5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61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рения с временным разрешением 100 нс позвол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вить пространственные неоднородности источника с характерными размерами менее километра (для сравнения, гравитационный радиус Солнца равен 3 к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ить ограничения на параметры квантовой гравитации и нарушение лоренц-инвариантности (вызывают расплывание фронтов импульса на космологических расстояния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1557360"/>
            <a:ext cx="3313080" cy="2016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1b1b1"/>
              </a:gs>
              <a:gs pos="100000">
                <a:srgbClr val="eaeae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404640"/>
            <a:ext cx="3313080" cy="28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549360"/>
            <a:ext cx="319392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628640"/>
            <a:ext cx="3313080" cy="172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1484280"/>
            <a:ext cx="784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206064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2060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Э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99280" y="54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ластик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цинтил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62064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9360"/>
            <a:ext cx="334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Q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в режиме счёта фотонов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строена на высокий поро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пертура до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~1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гловой захв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~2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ктивная защита (подавление заряженных частиц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F48-CC9C-40C3-951A-8250D4339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Поиск гипотетических вариаций констант α- и β-распада в зависимости от направления, скорости движения радиоактивного источника и других возможных факт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оследнее время опубликован ряд работ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bac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 al.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10-201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, где представлены  экспериментальные свидетельства вариаций скорости распада нуклидов в зависимости от времени года. Авторы работ связывают вариации констант распада с расстоянием от Земли до Солнца. Однако возможно, что вариации вызваны изменением гелио- или галактоцентрической скорости движения Земли. Для проверки этой гипотезы было бы интересно измерить вариации скорости распада на спутнике, находящемся на близкой околоземной орбите (изменение скоро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км/с с периодом порядка ча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320" y="1341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ТИВ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3B8-5352-4488-9A2C-817CA7DA4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Поиск гипотетических вариаций констант α- и β-распа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565360"/>
            <a:ext cx="3960720" cy="2016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1b1b1"/>
              </a:gs>
              <a:gs pos="100000">
                <a:srgbClr val="eaeae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924280"/>
            <a:ext cx="3529080" cy="1441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808080"/>
              </a:gs>
              <a:gs pos="100000">
                <a:srgbClr val="eaeae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3789360"/>
            <a:ext cx="295272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3213000"/>
            <a:ext cx="295272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924280"/>
            <a:ext cx="14436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2924280"/>
            <a:ext cx="14436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924280"/>
            <a:ext cx="144360" cy="28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2924280"/>
            <a:ext cx="14472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3213000"/>
            <a:ext cx="50472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708280"/>
            <a:ext cx="71280" cy="187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005360"/>
            <a:ext cx="3384360" cy="215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581360"/>
            <a:ext cx="1081080" cy="100836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3860640"/>
            <a:ext cx="289080" cy="287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78560" y="3860640"/>
            <a:ext cx="288720" cy="287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3862440"/>
            <a:ext cx="288720" cy="28728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068640"/>
            <a:ext cx="100800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08280"/>
            <a:ext cx="71280" cy="1297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3068640"/>
            <a:ext cx="100800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860640"/>
            <a:ext cx="144360" cy="144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221000"/>
            <a:ext cx="649080" cy="14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221000"/>
            <a:ext cx="72072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3860640"/>
            <a:ext cx="144720" cy="144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708280"/>
            <a:ext cx="71640" cy="1297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789360"/>
            <a:ext cx="50472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4221000"/>
            <a:ext cx="142920" cy="144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221000"/>
            <a:ext cx="144720" cy="144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284640"/>
            <a:ext cx="144360" cy="50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44720" cy="504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4378320"/>
            <a:ext cx="142920" cy="203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378320"/>
            <a:ext cx="144720" cy="203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12280" y="765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маллоевый кож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03280" y="1123920"/>
            <a:ext cx="28908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7840" y="519264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аговый двиг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003640" y="5013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05480" y="2492280"/>
            <a:ext cx="0" cy="34228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877000"/>
            <a:ext cx="647640" cy="5047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7160" y="5732640"/>
            <a:ext cx="52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флон (фиксато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рмовтулки подшипников сколь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9600" y="465300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урель с источ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414972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5120" y="335772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ллим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680" y="1197000"/>
            <a:ext cx="34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верхностно-барь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тектор (основ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67320" y="1197000"/>
            <a:ext cx="34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верхностно-барь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етектор (контро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1773360"/>
            <a:ext cx="71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84360" y="328464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35733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435640" y="1916280"/>
            <a:ext cx="28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860640"/>
            <a:ext cx="289080" cy="287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4221000"/>
            <a:ext cx="71640" cy="144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5400" y="4761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рмода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03640" y="429228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2924280"/>
            <a:ext cx="71640" cy="144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2924280"/>
            <a:ext cx="71280" cy="144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40200" y="19890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рмода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2205000"/>
            <a:ext cx="288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8480" y="191772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рмода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66920" y="220500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48600" y="44370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т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68360" y="400500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94360" y="4040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аку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3500280"/>
            <a:ext cx="93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16360" y="4149720"/>
            <a:ext cx="430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2565360"/>
            <a:ext cx="21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рмокоро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воспринимает внешнее д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88000" y="278136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7628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стан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A71-E4BE-4980-9EB6-F60EC5DFD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05264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полните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химического состава космических лучей и поиск сверхтяжёлых элементов в космических лучах с помощью сцинтилляционного детектора, способного различать ионы по форме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я космических лучей сверхвысоких энергий (более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91-CCA9-4443-82C9-DB03DE8B9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Программа исследований с использованием данных проекта «Радиоастрон» («Спектр-Р»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5264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гравитационных волн путем анализа радиосигналов от удаленных квази-точечных объектов. Ожидается, что распространение фотонов в поле гравитационной волны должно приводить к кратковременным возмущениям радиосигн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аксионов (одни из наиболее вероятных составляющих тёмной материи) путем анализа радиосигналов от возможных космических источников аксионов при покрытии их план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эффективной массы фотона, которая может возникнуть в результате смешивания фотонов с аксионами в космических магнитных по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гипотетического магнитного момента фотонов и реликтовых нейтри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квантовой гравитации и нарушений Лоренц-инвариа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иск микрофлуктуаций плотности тёмной ма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2DC-0C62-41D2-843D-D82A5BD32A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4581360"/>
            <a:ext cx="1343160" cy="118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5080" y="-1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изические принц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90792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90792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90792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90792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55418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нач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ло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лновой фр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90792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141300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1844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060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263700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852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14172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350028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3860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4292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465300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501336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119700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155736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220500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249228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306864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335772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371808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4076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4292640"/>
            <a:ext cx="144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465300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5013360"/>
            <a:ext cx="144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 rot="16200000">
            <a:off x="5724360" y="980640"/>
            <a:ext cx="577080" cy="28800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/>
          <p:nvPr/>
        </p:nvCxnSpPr>
        <p:spPr>
          <a:xfrm rot="5400000">
            <a:off x="5686560" y="1591200"/>
            <a:ext cx="648360" cy="291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/>
          <p:nvPr/>
        </p:nvCxnSpPr>
        <p:spPr>
          <a:xfrm flipH="1" rot="16200000">
            <a:off x="5652000" y="2277720"/>
            <a:ext cx="577080" cy="142200"/>
          </a:xfrm>
          <a:prstGeom prst="curvedConnector5">
            <a:avLst>
              <a:gd name="adj1" fmla="val 49812"/>
              <a:gd name="adj2" fmla="val 50000"/>
              <a:gd name="adj3" fmla="val 498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/>
          <p:nvPr/>
        </p:nvCxnSpPr>
        <p:spPr>
          <a:xfrm rot="5400000">
            <a:off x="5615280" y="2888280"/>
            <a:ext cx="648360" cy="14544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 flipH="1" rot="16200000">
            <a:off x="5796720" y="3357360"/>
            <a:ext cx="576360" cy="430920"/>
          </a:xfrm>
          <a:prstGeom prst="curvedConnector5">
            <a:avLst>
              <a:gd name="adj1" fmla="val 49875"/>
              <a:gd name="adj2" fmla="val 50000"/>
              <a:gd name="adj3" fmla="val 498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/>
          <p:nvPr/>
        </p:nvCxnSpPr>
        <p:spPr>
          <a:xfrm rot="5400000">
            <a:off x="5759640" y="3967920"/>
            <a:ext cx="648360" cy="43416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/>
          <p:nvPr/>
        </p:nvCxnSpPr>
        <p:spPr>
          <a:xfrm flipH="1" rot="16200000">
            <a:off x="5725440" y="4653360"/>
            <a:ext cx="576360" cy="286560"/>
          </a:xfrm>
          <a:prstGeom prst="curvedConnector5">
            <a:avLst>
              <a:gd name="adj1" fmla="val 49875"/>
              <a:gd name="adj2" fmla="val 49937"/>
              <a:gd name="adj3" fmla="val 498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/>
          <p:nvPr/>
        </p:nvCxnSpPr>
        <p:spPr>
          <a:xfrm rot="5400000">
            <a:off x="5687280" y="5264280"/>
            <a:ext cx="648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8" name="PubChord"/>
          <p:cNvSpPr/>
          <p:nvPr/>
        </p:nvSpPr>
        <p:spPr>
          <a:xfrm flipV="1" rot="8100000">
            <a:off x="6659280" y="476280"/>
            <a:ext cx="721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ubChord"/>
          <p:cNvSpPr/>
          <p:nvPr/>
        </p:nvSpPr>
        <p:spPr>
          <a:xfrm flipV="1" rot="8100000">
            <a:off x="6587640" y="4724280"/>
            <a:ext cx="7210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0200" y="530532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учайно-неоднородный фаз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кран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9920" y="568656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аж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л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р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659640" y="44280"/>
            <a:ext cx="1898640" cy="20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C54-715D-4F7D-9381-239563FEB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927000"/>
            <a:ext cx="7211880" cy="5815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55640" y="927000"/>
            <a:ext cx="7211880" cy="5815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офоты точечного источника без фазового экрана (с учётом инструментального разрешения) и с ф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9BC-3B98-4E8A-9163-481A660379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3120" y="357120"/>
            <a:ext cx="8445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ОФЛ ИЯИ уже проводились исследования в области физики частиц с использованием данных радиоинтерферометрии со сверхдлинной базой. В 2005 г. были установлены лучшие (на тот момент) ограничения на электрический заряд фото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 &lt; 3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–3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ли использованы наземные РСДБ наблюдения внегалактического радиоисточника (ядро галактики) сквозь магнитное поле скопления галак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й технике возможно также установление ограничений на магнитный (или электрический) момент фотона и его другие аномальные электромагнитные свойства, а также на связь фотона с аксионом (примесь массивного аксиона придаёт фотону эффективную массу в магнитном по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F9A-1A6F-497D-AB60-CAC5C8DD3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27600" y="3068640"/>
            <a:ext cx="4172040" cy="325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172040" cy="3257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сех случаях методика основывается на возникновении эффективного коэффициента преломления (а также дисперсии, двойного лучепреломления и дихроизма) радиоволн в вакууме. Это приводит к размыванию точечного источника в картинной плоскости и расплыванию фронта радиоимпульса в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50920" y="2359080"/>
            <a:ext cx="8642160" cy="12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91B-964A-4AE8-B76E-9D974B1620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ндартная КЭД предусматривает появление вакуумного коэффициента преломления ЭМ волны в статических электрических и магнитных полях (например, рассеяние Дельбрюка на электрическом поле ядра). В магнитном поле стандартная КЭД даёт коэффициенты прелом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·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–3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/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с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|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–3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/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с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ко при наличии виртуальных аксионов, смешивающихся с фотонами, вакуумный коэффициент преломления в магнитном поле значительно больше, появляются также эффекты, зависящие от поляризации (двулучепреломление, дихроиз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292428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сравнения – коэффициенты преломления нейтринных состояний в област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W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ффекта в Солнце имеют порядок 1+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2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584-273C-4CEB-B201-11856136F2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33336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052640"/>
            <a:ext cx="85690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рамма наземны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земны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иски тёмной ма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я свойств нейтр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рамма исследований для украинского научного спутника (100-150 к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рамма исследований с использованием данных проекта «Радиоастрон» («Спектр-Р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рамма исследований для М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FA4-F4FB-4FA8-84D3-1786B667F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5920" y="0"/>
            <a:ext cx="647208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583-37EE-409E-AFDB-C8624EC8C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945480" y="14112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земна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СД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558-5BFF-4973-8542-498076B84A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97600" y="1411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адиоаст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DF9-2D85-4DE0-BABF-51269B0418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19120" y="57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2920" y="1341360"/>
          <a:ext cx="8893080" cy="4184640"/>
        </p:xfrm>
        <a:graphic>
          <a:graphicData uri="http://schemas.openxmlformats.org/drawingml/2006/table">
            <a:tbl>
              <a:tblPr/>
              <a:tblGrid>
                <a:gridCol w="1778040"/>
                <a:gridCol w="1547640"/>
                <a:gridCol w="1471680"/>
                <a:gridCol w="1609920"/>
                <a:gridCol w="248580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апаз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92 с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18 с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6,2 с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1,19-1,63 с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тр. частота, Г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6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392-25,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ирина полосы, М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ельн. угл. разрешение, мкс ду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4076640"/>
            <a:ext cx="503280" cy="720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97600" y="1411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диоаст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462-5B2D-45BD-B75D-104ABCD8CC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Программа исследований для Международной космической стан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360" y="1052640"/>
            <a:ext cx="68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иск стерильных нейтрино (одни из наиболее вероятных составляющих тёмной материи) с помощью криогенного рентгеновского детектора большой площади (несколько дециметров) с высоким разрешением (несколько эВ) в диапазоне энергий рентгеновских квантов от 0.5 кэВ до 20-30 кэВ. Эта техника чувствительна также к возможным распадам аксионов в этом диапазоне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следование химического состава космических лучей с помощью трековых детект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0920" y="170028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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7954560" y="2060280"/>
            <a:ext cx="18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019640" y="1989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21320" y="2131920"/>
            <a:ext cx="54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6160" y="126828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3492360"/>
            <a:ext cx="201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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961400" y="3933360"/>
            <a:ext cx="1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3040" y="39402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83600" y="1197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75600" y="3003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71000" y="2997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16F-D8D8-4CC0-864B-4EE98DA269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2133720"/>
            <a:ext cx="491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AB8-BB3A-49B9-A534-56359D1C4E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40000" y="33336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ck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1A4-CF47-45E0-8E54-8AE1276CA9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2625840" y="1125360"/>
            <a:ext cx="3382920" cy="3383280"/>
            <a:chOff x="2625840" y="1125360"/>
            <a:chExt cx="3382920" cy="3383280"/>
          </a:xfrm>
        </p:grpSpPr>
        <p:sp>
          <p:nvSpPr>
            <p:cNvPr id="247" name=""/>
            <p:cNvSpPr/>
            <p:nvPr/>
          </p:nvSpPr>
          <p:spPr>
            <a:xfrm>
              <a:off x="2625840" y="1125360"/>
              <a:ext cx="3382920" cy="3383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02200" y="13780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0220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59280" y="3141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928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48360" y="3141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836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28148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1125360"/>
            <a:ext cx="3382920" cy="3383280"/>
          </a:xfrm>
          <a:prstGeom prst="donut">
            <a:avLst>
              <a:gd name="adj" fmla="val 43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627280" y="1125360"/>
            <a:ext cx="3382920" cy="3383280"/>
            <a:chOff x="2627280" y="1125360"/>
            <a:chExt cx="3382920" cy="3383280"/>
          </a:xfrm>
        </p:grpSpPr>
        <p:sp>
          <p:nvSpPr>
            <p:cNvPr id="257" name=""/>
            <p:cNvSpPr/>
            <p:nvPr/>
          </p:nvSpPr>
          <p:spPr>
            <a:xfrm>
              <a:off x="2627280" y="1125360"/>
              <a:ext cx="3382920" cy="338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3480" y="2673360"/>
              <a:ext cx="28908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0960" y="1539720"/>
              <a:ext cx="109440" cy="1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27280" y="1125360"/>
            <a:ext cx="3382920" cy="3383280"/>
          </a:xfrm>
          <a:prstGeom prst="donut">
            <a:avLst>
              <a:gd name="adj" fmla="val 43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27280" y="1125360"/>
            <a:ext cx="3382920" cy="3383280"/>
            <a:chOff x="2627280" y="1125360"/>
            <a:chExt cx="3382920" cy="3383280"/>
          </a:xfrm>
        </p:grpSpPr>
        <p:sp>
          <p:nvSpPr>
            <p:cNvPr id="262" name=""/>
            <p:cNvSpPr/>
            <p:nvPr/>
          </p:nvSpPr>
          <p:spPr>
            <a:xfrm>
              <a:off x="2627280" y="1125360"/>
              <a:ext cx="3382920" cy="338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73480" y="2673360"/>
              <a:ext cx="28908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0960" y="1539720"/>
              <a:ext cx="109440" cy="1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629080" y="404280"/>
            <a:ext cx="3382920" cy="4825080"/>
            <a:chOff x="2629080" y="404280"/>
            <a:chExt cx="3382920" cy="4825080"/>
          </a:xfrm>
        </p:grpSpPr>
        <p:sp>
          <p:nvSpPr>
            <p:cNvPr id="266" name=""/>
            <p:cNvSpPr/>
            <p:nvPr/>
          </p:nvSpPr>
          <p:spPr>
            <a:xfrm>
              <a:off x="3635280" y="3429000"/>
              <a:ext cx="1368360" cy="1800360"/>
            </a:xfrm>
            <a:prstGeom prst="blockArc">
              <a:avLst>
                <a:gd name="adj1" fmla="val 10875916"/>
                <a:gd name="adj2" fmla="val 21524084"/>
                <a:gd name="adj3" fmla="val 1352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0800000">
              <a:off x="3634920" y="404280"/>
              <a:ext cx="1368360" cy="1800360"/>
            </a:xfrm>
            <a:prstGeom prst="blockArc">
              <a:avLst>
                <a:gd name="adj1" fmla="val 10875916"/>
                <a:gd name="adj2" fmla="val 21524084"/>
                <a:gd name="adj3" fmla="val 1352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29080" y="1125360"/>
              <a:ext cx="3382920" cy="3383280"/>
            </a:xfrm>
            <a:prstGeom prst="donut">
              <a:avLst>
                <a:gd name="adj" fmla="val 436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21120" y="4210200"/>
              <a:ext cx="162000" cy="90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2920" y="4184640"/>
              <a:ext cx="162000" cy="108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2920" y="1341360"/>
              <a:ext cx="162000" cy="108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21120" y="1341360"/>
              <a:ext cx="162000" cy="1080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14920" y="1197000"/>
            <a:ext cx="1008000" cy="3240000"/>
            <a:chOff x="3814920" y="1197000"/>
            <a:chExt cx="1008000" cy="3240000"/>
          </a:xfrm>
        </p:grpSpPr>
        <p:sp>
          <p:nvSpPr>
            <p:cNvPr id="274" name=""/>
            <p:cNvSpPr/>
            <p:nvPr/>
          </p:nvSpPr>
          <p:spPr>
            <a:xfrm>
              <a:off x="3814920" y="1197000"/>
              <a:ext cx="1008000" cy="1008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4920" y="3429000"/>
              <a:ext cx="1008000" cy="1008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17840" y="907920"/>
            <a:ext cx="0" cy="37465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56000" y="281772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AEB-A861-43E7-861A-E56B60A1DD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9549 0.01574 E">
                                      <p:cBhvr>
                                        <p:cTn id="6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0.26388 -0.00509 E">
                                      <p:cBhvr>
                                        <p:cTn id="6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3247 -0.03658 E">
                                      <p:cBhvr>
                                        <p:cTn id="6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18525 -0.04722 E">
                                      <p:cBhvr>
                                        <p:cTn id="7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12222 -0.05764 E">
                                      <p:cBhvr>
                                        <p:cTn id="7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075 -0.05764 E">
                                      <p:cBhvr>
                                        <p:cTn id="8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40000" y="333360"/>
            <a:ext cx="491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ыбор радионукл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1052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еб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иод полураспада порядка (или больше) времени эксперимента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несколько л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оиска вариаций бета-распада должен иметься дочерний короткоживущий альфа-распадчик (пример: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b-Bi-Po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сутствие радона (и др. радиоактивных газов) среди дочер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C06-AA4C-4E92-A013-140559B10F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340000" y="33336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етали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052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флон покрыт графитом для снятия статики, все проводящие детали соединены гальванически. Возможно размещение 6-8 детекторов (коллиматоры напротив каждого детектора) и 5-7 источников, с одной пустой ячейкой на турели для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687-918F-4B1E-B337-77532732DF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Подземные эксперименты: Прямые поиски частиц тёмной матер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52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астие в эксперименте DarkSide для поиска вимпов с помощью криогенного детектора с жидким арг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астие в эксперименте EURECA с целью поиска вимпов с помощью большого (сотни кг) криогенного мультикристалльного дет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ка детектора, чувствительного к суточным модуляций потока тёмной материи (проект ADAMO), с помощью анизотропных сцинтилляционных крист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FEB-0DFC-43CF-ADE1-0AB33A131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333360"/>
            <a:ext cx="828180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иск аномальных эффектов КЭД, квантовой гравитации и фотон-аксионной конверсии с помощью РСДБ (в частности, «Радиоастрон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C1C-C4AB-410C-BEB5-374C48F974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Подземные эксперименты: Исследование свойств нейтрин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52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ные измерения потока солнечных нейтрино от бериллия-7 и других источников в pp-и CNO-циклах, поиски антинейтрино от Солнца и других возможных источников, исследования осцилляций нейтрино от искусственного источника, поиск нейтрино от сверхновых, гамма-всплесков, солнечных вспышек, поиск гипотетических свойств нейтрино (электромагнитные моменты, распад нейтрино) с помощью детектора BOREX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массы и природы нейтрино в экспериментах по поиску двойного бета-распада яд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265-6AD4-44DA-B8F7-EDD45CE66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грамма исследований для украинского научного спутника (100-150 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52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тонкой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иск гипотетических вариаций констант α- и β-распада в зависимости от направления, скорости движения радиоактивного источника и других возможны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химического состава космических лучей и поиск сверхтяжёлых элементов в космических лучах с помощью сцинтилляционного детектора, способного различать ионы по форме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я космических лучей сверхвысоких энергий (более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4F1-CF34-4FF1-A13C-9FE937293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upload.wikimedia.org/wikipedia/commons/thumb/e/ef/GRB_BATSE_12lightcurves.png/608px-GRB_BATSE_12lightcurves.png"/>
          <p:cNvPicPr/>
          <p:nvPr/>
        </p:nvPicPr>
        <p:blipFill>
          <a:blip r:embed="rId1"/>
          <a:stretch/>
        </p:blipFill>
        <p:spPr>
          <a:xfrm>
            <a:off x="0" y="463680"/>
            <a:ext cx="6480000" cy="639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72360" y="54936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S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@CGRO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bin = 64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ток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D80-5988-45BE-91F6-4F70D65C5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5842080"/>
        </p:xfrm>
        <a:graphic>
          <a:graphicData uri="http://schemas.openxmlformats.org/drawingml/2006/table">
            <a:tbl>
              <a:tblPr/>
              <a:tblGrid>
                <a:gridCol w="2772000"/>
                <a:gridCol w="3097080"/>
                <a:gridCol w="3095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S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GRO, 1991-2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M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rmi, 2008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M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k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k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 THRESH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 ph/cm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 ph/cm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 (true thr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TRY 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5 k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- 25 k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Area Dete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Energy Dete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 c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 c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keV to 1.8 M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keV to 1 M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oscopy Dete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Energy Dete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2 c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 c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keV to 10 M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keV to 40 M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5D3-EF39-4472-A41E-B7F5DB5A1A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620640"/>
          <a:ext cx="9144000" cy="464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APABILIT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B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8 keV -- 30 M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sol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FWHM at 511 k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μ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board GRB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5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1.8 sec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lt;8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S/C &lt; 6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enit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B sensitivity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n groun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4 photons cm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eak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, 50--300 keV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B on-boa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ger sensitivity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efficienc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 photons cm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eak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, 50--300 ke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of vi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steradi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 μsec/cou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416-7828-402A-B136-5D1339C48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BAT Light Curve for GRBblc/091127.png"/>
          <p:cNvPicPr/>
          <p:nvPr/>
        </p:nvPicPr>
        <p:blipFill>
          <a:blip r:embed="rId1"/>
          <a:stretch/>
        </p:blipFill>
        <p:spPr>
          <a:xfrm>
            <a:off x="5111640" y="189000"/>
            <a:ext cx="4032360" cy="429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следование временной структуры гамма-вспл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9600" y="65530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МФ, 22.11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9360"/>
            <a:ext cx="56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иковый поток в диапазоне 15-150 кэВ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5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T@Swift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200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ZnTe 32K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льтидетектор с кодированной апертурой,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6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4 ср,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Δ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17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н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…20 K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чётов/с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1…4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3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бытия в год с пиковым потоком выше 30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AT cut-away diagram"/>
          <p:cNvPicPr/>
          <p:nvPr/>
        </p:nvPicPr>
        <p:blipFill>
          <a:blip r:embed="rId2"/>
          <a:stretch/>
        </p:blipFill>
        <p:spPr>
          <a:xfrm>
            <a:off x="34920" y="3637080"/>
            <a:ext cx="4114800" cy="310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67280" y="4292640"/>
            <a:ext cx="50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ининг 100 нс с монодетектором 10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до 5х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мма-квантов/с) позволил бы уверенно разрешить тонкую временную структуру гамма-всплеска, которая, возможно, соответствует неоднородностям источника размером до 1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9A1-8087-49CC-9E0A-B950FC6CA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3:37Z</dcterms:created>
  <dc:creator>VVK</dc:creator>
  <dc:description/>
  <dc:language>en-US</dc:language>
  <cp:lastModifiedBy>VVK</cp:lastModifiedBy>
  <dcterms:modified xsi:type="dcterms:W3CDTF">2012-11-22T09:27:06Z</dcterms:modified>
  <cp:revision>30</cp:revision>
  <dc:subject/>
  <dc:title>Слайд 1</dc:title>
</cp:coreProperties>
</file>