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5.wmf" ContentType="image/x-wmf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9E1-4A82-4D99-B45D-613AA9EB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16B-87B7-4486-872F-7E2BCEFC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C39-242D-4E91-B6BF-FB1C711D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869-7493-432C-BF5B-26306652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48B7-C368-4E9A-B4FF-4A3B24BF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CC6-CAA5-4337-AEC4-E712D61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0F6-1B7F-489C-8054-0E027EE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D848-262A-4B48-9BF4-166EEBF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8D8-0DD4-46BE-88A2-AE388BC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1503000"/>
            <a:ext cx="8553600" cy="106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AAD-58D3-486D-A294-A22C4BC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C134-8B2D-453A-8FAE-47E77964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94C-1016-4C74-9AA5-10F78C82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166-E766-4744-BAFE-E3E2965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9572-8FE4-4270-81E1-979C0BF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0B80-0DBC-4EBA-8F25-7D19EB97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AF40-8782-4CDF-8874-B2249F2B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80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832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6DC-B6E0-418A-998E-4BD21FA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763E-3D6B-4108-88A1-827C0D2D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6DF1-22C3-4750-954C-A92B132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C7F3-E591-4F21-B831-6D710B8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55DF-9AB6-47ED-8A4F-E19713BC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5948-2421-4092-BE00-D637CC8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48D-54F1-4DFB-91F8-5356777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640" y="1503000"/>
            <a:ext cx="8553600" cy="106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4F72-0BC4-43D0-99C3-BCAA61A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A5DE-D347-4B0A-AFDE-31AAF23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4AA6-6DB5-433B-93C8-F09ECFB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0446-E40C-4A12-BF62-4633990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215C-6E85-4E9D-B890-8951854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EE71-89DD-4F8C-A7FE-415CBBE7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580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8320" y="4052880"/>
            <a:ext cx="291636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F16A-24A5-4A82-A995-509852B4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BAB-AA02-428A-AFA7-EA57522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E84-F7B7-4AE9-9846-E0427C3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1503000"/>
            <a:ext cx="8553600" cy="106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D92-4165-47FB-AA18-1B92976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61E-683D-4D1F-8B5A-2DEB9C53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288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799-FCCD-419B-A25D-A385B8C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2880"/>
            <a:ext cx="9058320" cy="20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7A2-638F-4AFA-9DC1-6E63AB1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501CD-4088-47D1-9EA7-DD7A0FB66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03000"/>
            <a:ext cx="8553600" cy="23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55640" y="6997320"/>
            <a:ext cx="20858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3400" y="6997320"/>
            <a:ext cx="3178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053560" y="7097760"/>
            <a:ext cx="20858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EDC3B2-79DB-4112-9E36-AEF1B4D773E3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4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5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6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342800"/>
            <a:ext cx="8555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5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755280" y="6997320"/>
            <a:ext cx="2087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443400" y="6997320"/>
            <a:ext cx="31795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053560" y="7097400"/>
            <a:ext cx="2087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419A08-2410-41EA-AA5E-A589D71801E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6040" y="198360"/>
            <a:ext cx="85662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DejaVu Sans"/>
              </a:rPr>
              <a:t>П.Н. Федоров </a:t>
            </a:r>
            <a:r>
              <a:rPr b="0" i="1" lang="ru-RU" sz="2800" spc="-1" strike="noStrike" baseline="33000">
                <a:solidFill>
                  <a:srgbClr val="660066"/>
                </a:solidFill>
                <a:latin typeface="Tahoma"/>
                <a:ea typeface="DejaVu Sans"/>
              </a:rPr>
              <a:t>1</a:t>
            </a: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DejaVu Sans"/>
              </a:rPr>
              <a:t>, В.М. Шульга </a:t>
            </a:r>
            <a:r>
              <a:rPr b="0" i="1" lang="ru-RU" sz="2800" spc="-1" strike="noStrike" baseline="33000">
                <a:solidFill>
                  <a:srgbClr val="660066"/>
                </a:solidFill>
                <a:latin typeface="Tahoma"/>
                <a:ea typeface="DejaVu Sans"/>
              </a:rPr>
              <a:t>2</a:t>
            </a:r>
            <a:br>
              <a:rPr sz="2800"/>
            </a:br>
            <a:r>
              <a:rPr b="0" i="1" lang="ru-RU" sz="1800" spc="-1" strike="noStrike" baseline="33000">
                <a:solidFill>
                  <a:srgbClr val="660066"/>
                </a:solidFill>
                <a:latin typeface="Tahoma"/>
                <a:ea typeface="DejaVu Sans"/>
              </a:rPr>
              <a:t>1 </a:t>
            </a:r>
            <a:r>
              <a:rPr b="0" i="1" lang="ru-RU" sz="1200" spc="-1" strike="noStrike">
                <a:solidFill>
                  <a:srgbClr val="660066"/>
                </a:solidFill>
                <a:latin typeface="Tahoma"/>
                <a:ea typeface="DejaVu Sans"/>
              </a:rPr>
              <a:t>НИИ астрономии ХНУ имени В.Н. Каразина,  </a:t>
            </a:r>
            <a:r>
              <a:rPr b="0" i="1" lang="ru-RU" sz="1800" spc="-1" strike="noStrike" baseline="33000">
                <a:solidFill>
                  <a:srgbClr val="660066"/>
                </a:solidFill>
                <a:latin typeface="Tahoma"/>
                <a:ea typeface="DejaVu Sans"/>
              </a:rPr>
              <a:t>2 </a:t>
            </a:r>
            <a:r>
              <a:rPr b="0" i="1" lang="ru-RU" sz="1200" spc="-1" strike="noStrike">
                <a:solidFill>
                  <a:srgbClr val="660066"/>
                </a:solidFill>
                <a:latin typeface="Tahoma"/>
                <a:ea typeface="DejaVu Sans"/>
              </a:rPr>
              <a:t>Радиоастрономический институт НАН Ураины</a:t>
            </a:r>
            <a:br>
              <a:rPr sz="1800"/>
            </a:br>
            <a:endParaRPr b="0" lang="en-US" sz="1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7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DejaVu Sans"/>
              </a:rPr>
              <a:t>КАТАЛОГ ХРМ КАК ИНСТРУМЕНТ ДЛЯ ИССЛЕДОВАНИЙ КИНЕМАТИКИ ГАЛАКТИКИ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0280" y="6046920"/>
            <a:ext cx="9070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Киев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 Институт ядерных исследований НАН Украины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21-22 ноябрь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1E12-33AE-4AAD-8772-BBF3481B24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4520" y="63000"/>
            <a:ext cx="856476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Отбор звезд Красного Сгущения из XPM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47720" y="1087560"/>
            <a:ext cx="3068640" cy="4384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657760" y="1000080"/>
            <a:ext cx="3125880" cy="439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9360" y="5748480"/>
            <a:ext cx="9236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b| &gt; 25 deg,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	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(</a:t>
            </a: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σ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HOERT+CMSY6"/>
                <a:ea typeface="DejaVu Sans"/>
              </a:rPr>
              <a:t>2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MHOERT+CMSY6"/>
                <a:ea typeface="MHOERT+CMSY6"/>
              </a:rPr>
              <a:t>J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 + </a:t>
            </a: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σ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HOERT+CMSY6"/>
                <a:ea typeface="DejaVu Sans"/>
              </a:rPr>
              <a:t>2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MHOERT+CMSY6"/>
                <a:ea typeface="MHOERT+CMSY6"/>
              </a:rPr>
              <a:t>Ks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)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HOERT+CMSY6"/>
                <a:ea typeface="MHOERT+CMSY6"/>
              </a:rPr>
              <a:t>1/2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 &lt; 0.1,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	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0.56 &lt; (J − K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MHOERT+CMSY6"/>
                <a:ea typeface="MHOERT+CMSY6"/>
              </a:rPr>
              <a:t>s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) &lt; 0.73,    J &lt; 11.75,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	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	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H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MHOERT+CMSY6"/>
                <a:ea typeface="MHOERT+CMSY6"/>
              </a:rPr>
              <a:t>J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 &gt; −0.5,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5 · lg |μ| &lt; 15.75 − 0.75 · 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1C7-5ABA-479E-9CB1-3CE7A51B9D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6720" y="119160"/>
            <a:ext cx="856440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Звезды Красного Сгущения в XPM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7640" y="936720"/>
            <a:ext cx="3888000" cy="381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319640" y="3743280"/>
            <a:ext cx="57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8880" y="4751280"/>
            <a:ext cx="3902040" cy="2543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27640" y="1511280"/>
            <a:ext cx="4751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JQVQWN+SFSS0800"/>
                <a:ea typeface="JQVQWN+SFSS0800"/>
              </a:rPr>
              <a:t>Полное число отобранных звезд-кандидатов RGC: 412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JQVQWN+SFSS0800"/>
                <a:ea typeface="JQVQWN+SFSS0800"/>
              </a:rPr>
              <a:t>Максимальное расстояние до звез-кандидатов RGC: 3.4 K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JQVQWN+SFSS0800"/>
                <a:ea typeface="JQVQWN+SFSS0800"/>
              </a:rPr>
              <a:t>Сравнение полученных расстояний с данными других авторов показывает хорошее соглас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B9A-E3C1-46D7-A9AD-2349059C54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1640" y="-71640"/>
            <a:ext cx="8564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Результаты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20760" y="493560"/>
            <a:ext cx="957564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Решение уравнений Огородникова-Милна выполнено методом наименьших квадратов с использованием полученных расстояний до звезд красного сгущения в сферических слоях возрастающего радиуса толщиной 50 пс. Получено значение угловой скорости вращения Галактики на круге Солнца </a:t>
            </a:r>
            <a:r>
              <a:rPr b="0" i="1" lang="ru-RU" sz="1600" spc="-1" strike="noStrike">
                <a:solidFill>
                  <a:srgbClr val="ff420e"/>
                </a:solidFill>
                <a:latin typeface="DejaVu Sans"/>
                <a:ea typeface="DejaVu Sans"/>
              </a:rPr>
              <a:t>ω</a:t>
            </a:r>
            <a:r>
              <a:rPr b="0" i="1" lang="ru-RU" sz="1600" spc="-1" strike="noStrike" baseline="-33000">
                <a:solidFill>
                  <a:srgbClr val="ff420e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YQPCVG+SFSS0500"/>
                <a:ea typeface="YQPCVG+SFSS0500"/>
              </a:rPr>
              <a:t>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= </a:t>
            </a:r>
            <a:r>
              <a:rPr b="0" i="1" lang="ru-RU" sz="1600" spc="-1" strike="noStrike">
                <a:solidFill>
                  <a:srgbClr val="ff420e"/>
                </a:solidFill>
                <a:latin typeface="MHOERT+CMSY6"/>
                <a:ea typeface="MHOERT+CMSY6"/>
              </a:rPr>
              <a:t>−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3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.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22 </a:t>
            </a:r>
            <a:r>
              <a:rPr b="0" i="1" lang="ru-RU" sz="1600" spc="-1" strike="noStrike">
                <a:solidFill>
                  <a:srgbClr val="ff420e"/>
                </a:solidFill>
                <a:latin typeface="MHOERT+CMSY6"/>
                <a:ea typeface="MHOERT+CMSY6"/>
              </a:rPr>
              <a:t>± 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.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036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[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mas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/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yr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]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ринимая расстояние до центра Галактики </a:t>
            </a:r>
            <a:r>
              <a:rPr b="0" i="1" lang="ru-RU" sz="16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R</a:t>
            </a:r>
            <a:r>
              <a:rPr b="0" i="1" lang="ru-RU" sz="16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6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8,5 </a:t>
            </a:r>
            <a:r>
              <a:rPr b="0" i="1" lang="ru-RU" sz="16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kps</a:t>
            </a: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, значение линейной скор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олучено равным </a:t>
            </a: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	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V</a:t>
            </a:r>
            <a:r>
              <a:rPr b="0" i="1" lang="ru-RU" sz="1600" spc="-1" strike="noStrike" baseline="-33000">
                <a:solidFill>
                  <a:srgbClr val="ff420e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YQPCVG+SFSS0500"/>
                <a:ea typeface="YQPCVG+SFSS0500"/>
              </a:rPr>
              <a:t> =</a:t>
            </a:r>
            <a:r>
              <a:rPr b="0" i="1" lang="ru-RU" sz="1600" spc="-1" strike="noStrike">
                <a:solidFill>
                  <a:srgbClr val="ff420e"/>
                </a:solidFill>
                <a:latin typeface="SXYECE+MSBM7"/>
                <a:ea typeface="SXYECE+MSBM7"/>
              </a:rPr>
              <a:t> 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130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[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km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/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sec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]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сравнения, решение этих уравнений для звезд Hipparcos с использованием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араллаксов дает значения </a:t>
            </a: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	</a:t>
            </a:r>
            <a:r>
              <a:rPr b="0" i="1" lang="ru-RU" sz="1600" spc="-1" strike="noStrike">
                <a:solidFill>
                  <a:srgbClr val="ff420e"/>
                </a:solidFill>
                <a:latin typeface="DejaVu Sans"/>
                <a:ea typeface="DejaVu Sans"/>
              </a:rPr>
              <a:t>ω</a:t>
            </a:r>
            <a:r>
              <a:rPr b="0" i="1" lang="ru-RU" sz="1600" spc="-1" strike="noStrike" baseline="-33000">
                <a:solidFill>
                  <a:srgbClr val="ff420e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YQPCVG+SFSS0500"/>
                <a:ea typeface="YQPCVG+SFSS0500"/>
              </a:rPr>
              <a:t>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= </a:t>
            </a:r>
            <a:r>
              <a:rPr b="0" i="1" lang="ru-RU" sz="1600" spc="-1" strike="noStrike">
                <a:solidFill>
                  <a:srgbClr val="ff420e"/>
                </a:solidFill>
                <a:latin typeface="MHOERT+CMSY6"/>
                <a:ea typeface="MHOERT+CMSY6"/>
              </a:rPr>
              <a:t>−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5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.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24</a:t>
            </a:r>
            <a:r>
              <a:rPr b="0" i="1" lang="ru-RU" sz="1600" spc="-1" strike="noStrike">
                <a:solidFill>
                  <a:srgbClr val="ff420e"/>
                </a:solidFill>
                <a:latin typeface="MHOERT+CMSY6"/>
                <a:ea typeface="MHOERT+CMSY6"/>
              </a:rPr>
              <a:t>±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.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35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[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mas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/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yr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] 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и 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V</a:t>
            </a:r>
            <a:r>
              <a:rPr b="0" i="1" lang="ru-RU" sz="1600" spc="-1" strike="noStrike" baseline="-33000">
                <a:solidFill>
                  <a:srgbClr val="ff420e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ff420e"/>
                </a:solidFill>
                <a:latin typeface="YQPCVG+SFSS0500"/>
                <a:ea typeface="YQPCVG+SFSS0500"/>
              </a:rPr>
              <a:t> =</a:t>
            </a:r>
            <a:r>
              <a:rPr b="0" i="1" lang="ru-RU" sz="1600" spc="-1" strike="noStrike">
                <a:solidFill>
                  <a:srgbClr val="ff420e"/>
                </a:solidFill>
                <a:latin typeface="SXYECE+MSBM7"/>
                <a:ea typeface="SXYECE+MSBM7"/>
              </a:rPr>
              <a:t> </a:t>
            </a:r>
            <a:r>
              <a:rPr b="0" i="1" lang="ru-RU" sz="1600" spc="-1" strike="noStrike">
                <a:solidFill>
                  <a:srgbClr val="ff420e"/>
                </a:solidFill>
                <a:latin typeface="SNAEUY+SFSS0600"/>
                <a:ea typeface="SNAEUY+SFSS0600"/>
              </a:rPr>
              <a:t>211 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[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km</a:t>
            </a:r>
            <a:r>
              <a:rPr b="0" i="1" lang="ru-RU" sz="1600" spc="-1" strike="noStrike">
                <a:solidFill>
                  <a:srgbClr val="ff420e"/>
                </a:solidFill>
                <a:latin typeface="MXYAXU+CMMI6"/>
                <a:ea typeface="MXYAXU+CMMI6"/>
              </a:rPr>
              <a:t>/</a:t>
            </a:r>
            <a:r>
              <a:rPr b="0" i="1" lang="ru-RU" sz="1600" spc="-1" strike="noStrike">
                <a:solidFill>
                  <a:srgbClr val="ff420e"/>
                </a:solidFill>
                <a:latin typeface="WKYRQD+SFSI0600"/>
                <a:ea typeface="WKYRQD+SFSI0600"/>
              </a:rPr>
              <a:t>sec</a:t>
            </a:r>
            <a:r>
              <a:rPr b="0" i="1" lang="ru-RU" sz="1600" spc="-1" strike="noStrike">
                <a:solidFill>
                  <a:srgbClr val="ff420e"/>
                </a:solidFill>
                <a:latin typeface="QEAPRL+CMSS8"/>
                <a:ea typeface="QEAPRL+CMSS8"/>
              </a:rPr>
              <a:t>]</a:t>
            </a:r>
            <a:r>
              <a:rPr b="0" i="1" lang="ru-RU" sz="1600" spc="-1" strike="noStrike">
                <a:solidFill>
                  <a:srgbClr val="660066"/>
                </a:solidFill>
                <a:latin typeface="QEAPRL+CMSS8"/>
                <a:ea typeface="QEAPRL+CMSS8"/>
              </a:rPr>
              <a:t> </a:t>
            </a: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QQAR+Arial"/>
                <a:ea typeface="LUQQAR+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AA34-9BFE-4376-8C84-1D0DBB2048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312480"/>
            <a:ext cx="85550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97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3280" y="57636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C475-2268-44E5-AD8E-A15CF7BBD6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6720" y="431280"/>
            <a:ext cx="85564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Разброс величин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Sgr A*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_x0001_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6.38 mas/yr_x0001_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R=8.0 kpc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V=236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Cepheids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5.73 mas/yr_x0001_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R=8.0 kpc  V=218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Abs </a:t>
            </a:r>
            <a:r>
              <a:rPr b="0" i="1" lang="ru-RU" sz="2400" spc="-1" strike="noStrike">
                <a:solidFill>
                  <a:srgbClr val="660066"/>
                </a:solidFill>
                <a:latin typeface="DejaVu Sans"/>
                <a:ea typeface="DejaVu Sans"/>
              </a:rPr>
              <a:t>μ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5.31 mas/yr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R=8.0 kpc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V=201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Tych-2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5.28 mas/yr_x0001__x0001_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R=8.0 kpc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V=200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XPM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4.32 mas/yr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_x0001_R=8.0 kpc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V=163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XPMg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3.22 mas/yr_x0001_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R=8.0 kpc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V=122 km/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D47-3ECC-492F-9FE0-C419D906B5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4880" y="777960"/>
            <a:ext cx="85647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Некоторые выводы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349200"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На сегодняшний день абсолютные собственные движения звезд являются все еще единственным массовым источником данных (сотни миллионов), с помощью которых можно определить кинематические параметры Галактики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349200"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Все каталоги собственных движений звезд, наследующие систему HCRF, отягощены систематической ошибкой, которая вызывает заметное расхождение между оценками угловой скорости вращения, полученной по данным этих каталогов  и по данным каталога ХРМ. Очевидно, что эта ошибка проникает и в другие методы, использующие данные каталога Hipparcos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349200"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Использование данных каталога ХРМ, который предполагается в  ближайшее время усовершенствовать для звездно-астрономических задач, вероятно позволит исследовать кинематику различных подсистем Галактики и построить для них кривые вращения Галактики.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Tahoma"/>
                <a:ea typeface="DejaVu Sans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C41-E920-450A-A7C9-E8905DC1771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6040" y="912960"/>
            <a:ext cx="8566200" cy="13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84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3984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39840" indent="-328680" algn="ctr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AB4A-ECB7-43D5-8FF9-29A125C5C02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-32040"/>
            <a:ext cx="855648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4360" y="71280"/>
            <a:ext cx="9647280" cy="748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E26D-859D-40DA-999F-6055CA3D647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-71280"/>
            <a:ext cx="8556480" cy="13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6360" y="503280"/>
            <a:ext cx="8856720" cy="70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EDD1-2744-4BA0-A39C-479C35D94AF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7640" y="324000"/>
            <a:ext cx="8556840" cy="13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3280" y="720720"/>
            <a:ext cx="8856720" cy="684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95EF-E904-40C3-BEB4-6F98DA0502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417600"/>
            <a:ext cx="8564400" cy="8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Составная кривая вращения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0360" y="1871640"/>
            <a:ext cx="4392720" cy="2735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51280" y="1689120"/>
            <a:ext cx="486576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Кривая вращения галактики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- зависимость орбитальной </a:t>
            </a: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скорости звёзд и газа в Галактике от расстояния до ее цен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олучение кривой вращения - одна из главных целей кинематических исследований нашей Галак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рактически все методы определения этой кривой зависят от двух параме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- расстояния до центра галактики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R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- скорости вращения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V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Галактики на расстоянии Солн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В 1986 Международный Астрономический Союз рекомендовал принимать знач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R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r>
              <a:rPr b="0" i="1" lang="ru-RU" sz="14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8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5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kps, V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r>
              <a:rPr b="0" i="1" lang="ru-RU" sz="14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220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k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/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NAEUY+SFSS0600"/>
                <a:ea typeface="SNAEUY+SFSS0600"/>
              </a:rPr>
              <a:t>А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5472000"/>
            <a:ext cx="8720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К настоящему времени скопилась масса данных, свидетельствующих что эти 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требуют серьезной ре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Значение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V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r>
              <a:rPr b="0" i="1" lang="ru-RU" sz="14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может быть получено из кинематического анализа только таких собственных движений, которые заданы в </a:t>
            </a:r>
            <a:r>
              <a:rPr b="0" i="1" lang="ru-RU" sz="1400" spc="-1" strike="noStrike">
                <a:solidFill>
                  <a:srgbClr val="660066"/>
                </a:solidFill>
                <a:latin typeface="AGGAXL+SFSO0600"/>
                <a:ea typeface="AGGAXL+SFSO0600"/>
              </a:rPr>
              <a:t>квази-инерциальной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истеме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олучение таких собственных движений затруднено влиянием трудноустрани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истематических ошибок наблюдений, сравнимых по величине с измеряемым эффек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4608360"/>
            <a:ext cx="42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SNAEUY+SFSS0600"/>
                <a:ea typeface="SNAEUY+SFSS0600"/>
              </a:rPr>
              <a:t>Кривая вращения Галактики по современным данным (arXiv:0811.0859v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6C87-CA10-4F7E-AAD6-430987760B9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537840"/>
            <a:ext cx="8566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Tahoma"/>
                <a:ea typeface="BBIIEI+tirx"/>
              </a:rPr>
              <a:t>Оценка точности собственных движений звезд ХРМ по</a:t>
            </a:r>
            <a:r>
              <a:rPr b="0" i="1" lang="en-US" sz="2200" spc="-1" strike="noStrike">
                <a:solidFill>
                  <a:srgbClr val="660066"/>
                </a:solidFill>
                <a:latin typeface="Tahoma"/>
                <a:ea typeface="BBIIEI+tirx"/>
              </a:rPr>
              <a:t> DR7. Северное небо.</a:t>
            </a:r>
            <a:endParaRPr b="0" lang="en-US" sz="2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61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180040" y="190980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660066"/>
                </a:solidFill>
                <a:latin typeface="Tahoma"/>
              </a:rPr>
              <a:t>Cреднее значение формальных собственных движений квазаров оказалось практически равным нулю (+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G+Times-Roman"/>
              </a:rPr>
              <a:t>0.12 и +0.24 мсд/год для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μ</a:t>
            </a:r>
            <a:r>
              <a:rPr b="0" i="1" lang="en-US" sz="1400" spc="-1" strike="noStrike" baseline="-42000">
                <a:solidFill>
                  <a:srgbClr val="660066"/>
                </a:solidFill>
                <a:latin typeface="Tahoma"/>
                <a:ea typeface="JOGDGI+MTMI"/>
              </a:rPr>
              <a:t>α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G+Times-Roman"/>
              </a:rPr>
              <a:t>cos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δ и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G+Times-Roman"/>
              </a:rPr>
              <a:t>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μ</a:t>
            </a:r>
            <a:r>
              <a:rPr b="0" i="1" lang="en-US" sz="1400" spc="-1" strike="noStrike" baseline="-42000">
                <a:solidFill>
                  <a:srgbClr val="660066"/>
                </a:solidFill>
                <a:latin typeface="Tahoma"/>
                <a:ea typeface="JOGDGI+MTMI"/>
              </a:rPr>
              <a:t>δ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</a:rPr>
              <a:t>), а среднеквадратичное значение равным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± (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G+Times-Roman"/>
              </a:rPr>
              <a:t>3.8÷7.4) мсд/год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DejaVu Sans"/>
              </a:rPr>
              <a:t>, в зависимости от звездной величины. Отметим еще раз, что эти числа дают оценку внешней точности собственных движений ХР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75360" y="447840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Здесь и далее на графиках красными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CairoFont-2-0"/>
              </a:rPr>
              <a:t>кружками обозначены средние значения формальных собственных движений, которые характеризуют неопределенность во вращении системы ХРМ, а вертикальными красными линиями — их стандартные отклонения, характеризующие случайную точность собственных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0880" y="1819440"/>
            <a:ext cx="3692520" cy="2523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678-74CE-45E4-9DCC-93E06B0428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-360"/>
            <a:ext cx="8566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Tahoma"/>
                <a:ea typeface="BBIIEI+tirx"/>
              </a:rPr>
              <a:t>Оценка точности собственных движений звезд ХРМ по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  <a:ea typeface="CairoFont-2-0"/>
              </a:rPr>
              <a:t>ICRF2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  <a:ea typeface="BBIIEI+tirx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3360" y="914400"/>
            <a:ext cx="4425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 algn="ctr">
              <a:lnSpc>
                <a:spcPct val="98000"/>
              </a:lnSpc>
              <a:spcBef>
                <a:spcPts val="799"/>
              </a:spcBef>
              <a:buSzPct val="164679"/>
              <a:buBlip>
                <a:blip r:embed="rId2"/>
              </a:buBlip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Tahoma"/>
              </a:rPr>
              <a:t>Северное небо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5175360" y="914400"/>
            <a:ext cx="4425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 algn="ctr">
              <a:lnSpc>
                <a:spcPct val="98000"/>
              </a:lnSpc>
              <a:spcBef>
                <a:spcPts val="799"/>
              </a:spcBef>
              <a:buSzPct val="164679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Tahoma"/>
              </a:rPr>
              <a:t>Южное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400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Arial"/>
              </a:rPr>
              <a:t>Среднее значение формальных собственных движений ICRF2-источников также оказалось меньше чем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0.2 мсд/год для μ</a:t>
            </a:r>
            <a:r>
              <a:rPr b="0" i="1" lang="en-US" sz="1400" spc="-1" strike="noStrike" baseline="-33000">
                <a:solidFill>
                  <a:srgbClr val="660066"/>
                </a:solidFill>
                <a:latin typeface="Tahoma"/>
                <a:ea typeface="BBIIEI+tirx"/>
              </a:rPr>
              <a:t>α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cosδ и μ</a:t>
            </a:r>
            <a:r>
              <a:rPr b="0" i="1" lang="en-US" sz="1400" spc="-1" strike="noStrike" baseline="-33000">
                <a:solidFill>
                  <a:srgbClr val="660066"/>
                </a:solidFill>
                <a:latin typeface="Tahoma"/>
                <a:ea typeface="BBIIEI+tirx"/>
              </a:rPr>
              <a:t>δ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 соответственно. Стандартное отклонение μ</a:t>
            </a:r>
            <a:r>
              <a:rPr b="0" i="1" lang="en-US" sz="1400" spc="-1" strike="noStrike" baseline="-33000">
                <a:solidFill>
                  <a:srgbClr val="660066"/>
                </a:solidFill>
                <a:latin typeface="Tahoma"/>
                <a:ea typeface="BBIIEI+tirx"/>
              </a:rPr>
              <a:t>α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cosδ и μ</a:t>
            </a:r>
            <a:r>
              <a:rPr b="0" i="1" lang="en-US" sz="1400" spc="-1" strike="noStrike" baseline="-33000">
                <a:solidFill>
                  <a:srgbClr val="660066"/>
                </a:solidFill>
                <a:latin typeface="Tahoma"/>
                <a:ea typeface="BBIIEI+tirx"/>
              </a:rPr>
              <a:t>δ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составило примерно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±(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4÷7.5) мсд/год для северной полусферы и 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JOGDGI+MTMI"/>
              </a:rPr>
              <a:t>±(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6÷10) мсд/год для южной.</a:t>
            </a:r>
            <a:r>
              <a:rPr b="0" i="1" lang="en-US" sz="1400" spc="-1" strike="noStrike">
                <a:solidFill>
                  <a:srgbClr val="660066"/>
                </a:solidFill>
                <a:latin typeface="Tahoma"/>
                <a:ea typeface="BBIIEI+tirx"/>
              </a:rPr>
              <a:t>‏</a:t>
            </a:r>
            <a:r>
              <a:rPr b="0" lang="en-US" sz="1400" spc="-1" strike="noStrike">
                <a:solidFill>
                  <a:srgbClr val="660066"/>
                </a:solidFill>
                <a:latin typeface="Tahoma"/>
                <a:ea typeface="DejaVu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14400" y="1143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616200" cy="2495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15000" y="11430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715000" y="36576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E409-E422-4CDE-8F4E-9E21AAD60028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431280"/>
            <a:ext cx="856296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Методы определения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1280" y="2239560"/>
            <a:ext cx="90680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спользование пространственных скоростей звез</a:t>
            </a: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д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(RAVE, Женевско-Копенгагенский обзор плюс собственные движения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спользование тангенциальных скоростей звезд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(Hipparcos и каталоги расширяющие его систему, </a:t>
            </a: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каталог ХРМ</a:t>
            </a: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спользование радио наблюдений галактического центра, молекулярных облаков, мазеров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(Reid M.J. &amp; Brunthaler A., 2004, ApJ. ; Reid M.J. et al., 2009, ApJ.; McMillan P., 2009 - 2012, MNRAS)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4230-57EB-45A0-B46B-DF72FD3EE9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3960" y="-360"/>
            <a:ext cx="85644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Харьковский каталог XPM</a:t>
            </a:r>
            <a:br>
              <a:rPr sz="2400"/>
            </a:b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http://cdsarc.u-strasbg.fr/viz-bin/cat?I/319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4600" y="1231560"/>
            <a:ext cx="9504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Положения, абсолютные собственные движения, оптическая B, R и инфракрасная J, H, K фотометрия 2MASS для ~ 314 миллионов звезд всего неба до m ~ 21</a:t>
            </a:r>
            <a:r>
              <a:rPr b="0" i="1" lang="ru-RU" sz="1600" spc="-1" strike="noStrike" baseline="33000">
                <a:solidFill>
                  <a:srgbClr val="660066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Единственный каталог, охватывающий всю небесную сферу, собственные движения которого абсолютизированы напрямую по слабым галактикам, без опоры на собственные движения каких-либо других каталогов, таких как UCAC, Tycho-2 или Hipparcos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В отношении собственных движений реализует независимую от HCRF (стандарт в астрономии, базирующийся на каталоге Hipparcos) квази-инерциальную систему, отсутствие вращения которой, обеспечивается прямой привязкой к </a:t>
            </a:r>
            <a:r>
              <a:rPr b="0" i="1" lang="ru-RU" sz="1600" spc="-1" strike="noStrike">
                <a:solidFill>
                  <a:srgbClr val="660066"/>
                </a:solidFill>
                <a:latin typeface="DejaVu Sans"/>
                <a:ea typeface="DejaVu Sans"/>
              </a:rPr>
              <a:t>~</a:t>
            </a:r>
            <a:r>
              <a:rPr b="0" i="1" lang="ru-RU" sz="1600" spc="-1" strike="noStrike">
                <a:solidFill>
                  <a:srgbClr val="660066"/>
                </a:solidFill>
                <a:latin typeface="Tahoma"/>
                <a:ea typeface="DejaVu Sans"/>
              </a:rPr>
              <a:t> 1 миллиону </a:t>
            </a: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удаленных внегалактических объектов — далеким галактикам и квазарам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c5000b"/>
                </a:solidFill>
                <a:latin typeface="Tahoma"/>
              </a:rPr>
              <a:t>Из сравнения данных каталога ХРМ с данными каталогов системы HCRF установлено: Система отсчета HCRF вращается относительно внегалактических источников со скоростью примерно 2 мсд/год. Это означает, что  собственные движения каталога</a:t>
            </a: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 Hipparcos </a:t>
            </a:r>
            <a:r>
              <a:rPr b="0" i="1" lang="ru-RU" sz="1600" spc="-1" strike="noStrike">
                <a:solidFill>
                  <a:srgbClr val="c5000b"/>
                </a:solidFill>
                <a:latin typeface="Tahoma"/>
              </a:rPr>
              <a:t>систематически ошибочны на эту величину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Tahoma"/>
              </a:rPr>
              <a:t>Абсолютная природа собственных движений XPM и охват всей небесной сферы позволяют надеяться на уточнение значений параметров галактического вращения, в частности - скорости вращения Галактики на расстоянии Солнца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99C8-5F19-415D-9C00-5DC3B4DECB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450360"/>
            <a:ext cx="856620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Рабочие уравнения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68360" y="2286000"/>
            <a:ext cx="7488360" cy="3095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4680" y="1246320"/>
            <a:ext cx="9207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кинематического анализа собственных движений звезд XPM использовалась модель Огородникова-Милна, записанная в Галактических координатах l и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8880" y="5303880"/>
            <a:ext cx="85676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Решение этих уравнений методом наименьших квадратов позволяет получить угловую скорость вращения Галактики на круге Солн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DejaVu Sans"/>
                <a:ea typeface="DejaVu Sans"/>
              </a:rPr>
              <a:t>ω</a:t>
            </a:r>
            <a:r>
              <a:rPr b="0" i="1" lang="ru-RU" sz="16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0</a:t>
            </a:r>
            <a:r>
              <a:rPr b="0" i="1" lang="ru-RU" sz="16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6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6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600" spc="-1" strike="noStrike" baseline="33000">
                <a:solidFill>
                  <a:srgbClr val="660066"/>
                </a:solidFill>
                <a:latin typeface="MCEARB+CMSY5"/>
                <a:ea typeface="MCEARB+CMSY5"/>
              </a:rPr>
              <a:t>−</a:t>
            </a:r>
            <a:r>
              <a:rPr b="0" i="1" lang="ru-RU" sz="1600" spc="-1" strike="noStrike" baseline="-33000">
                <a:solidFill>
                  <a:srgbClr val="660066"/>
                </a:solidFill>
                <a:latin typeface="YQPCVG+SFSS0500"/>
                <a:ea typeface="YQPCVG+SFSS0500"/>
              </a:rPr>
              <a:t>12</a:t>
            </a:r>
            <a:r>
              <a:rPr b="0" i="1" lang="ru-RU" sz="1600" spc="-1" strike="noStrike">
                <a:solidFill>
                  <a:srgbClr val="660066"/>
                </a:solidFill>
                <a:latin typeface="YQPCVG+SFSS0500"/>
                <a:ea typeface="YQPCVG+SFSS0500"/>
              </a:rPr>
              <a:t> </a:t>
            </a:r>
            <a:r>
              <a:rPr b="0" i="1" lang="ru-RU" sz="16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 </a:t>
            </a:r>
            <a:r>
              <a:rPr b="0" i="1" lang="ru-RU" sz="16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600" spc="-1" strike="noStrike" baseline="33000">
                <a:solidFill>
                  <a:srgbClr val="660066"/>
                </a:solidFill>
                <a:latin typeface="QEAPRL+CMSS8"/>
                <a:ea typeface="QEAPRL+CMSS8"/>
              </a:rPr>
              <a:t>+</a:t>
            </a:r>
            <a:r>
              <a:rPr b="0" i="1" lang="ru-RU" sz="1600" spc="-1" strike="noStrike" baseline="-33000">
                <a:solidFill>
                  <a:srgbClr val="660066"/>
                </a:solidFill>
                <a:latin typeface="SNAEUY+SFSS0600"/>
                <a:ea typeface="SNAEUY+SFSS0600"/>
              </a:rPr>
              <a:t>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корректного решение уравнений требуется знать расстояния до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1FAF-CB5E-43C8-B505-CC2BC1FE95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4880" y="360000"/>
            <a:ext cx="85647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Кинематика Галактики по собственным движениям звезд смешанного спектрального состав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950436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F8B-EBBA-43A3-BD4D-451F7B41AF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85644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Некоторые замеча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Кинематические параметры получены по всем звездам каталогов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-33336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Невозможно построить зависимости от расстояния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-33336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Очевидно отличие значений параметров, полученных по данным каталога ХРМ и данным каталогов системы HCRF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-333360">
              <a:lnSpc>
                <a:spcPct val="98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660066"/>
                </a:solidFill>
                <a:latin typeface="Tahoma"/>
              </a:rPr>
              <a:t>Необходимо более тонкое исследование для получения зависимостей от расстояния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3336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EC6-84A7-4D67-8A6D-C2A2680243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600" y="430200"/>
            <a:ext cx="856476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олучение расстояний до звезд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56360" y="1295280"/>
            <a:ext cx="2376720" cy="324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03280" y="1368360"/>
            <a:ext cx="2376360" cy="3240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24360" y="1352520"/>
            <a:ext cx="40320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получения расстояний, из XPM делалась выборка звезд, для которых удается установить класс светимости и получить фотометрические параллак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π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00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·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QEAPRL+CMSS8"/>
                <a:ea typeface="QEAPRL+CMSS8"/>
              </a:rPr>
              <a:t>(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CMGEIY+SFSI0500"/>
                <a:ea typeface="CMGEIY+SFSI0500"/>
              </a:rPr>
              <a:t>M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CEARB+CMSY5"/>
                <a:ea typeface="MCEARB+CMSY5"/>
              </a:rPr>
              <a:t>−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CMGEIY+SFSI0500"/>
                <a:ea typeface="CMGEIY+SFSI0500"/>
              </a:rPr>
              <a:t>m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QEAPRL+CMSS8"/>
                <a:ea typeface="QEAPRL+CMSS8"/>
              </a:rPr>
              <a:t>)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IAMTRI+CMMI5"/>
                <a:ea typeface="IAMTRI+CMMI5"/>
              </a:rPr>
              <a:t>/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YQPCVG+SFSS0500"/>
                <a:ea typeface="YQPCVG+SFSS0500"/>
              </a:rPr>
              <a:t>5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[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as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определения принадле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звезд к классу светимости использовались их привед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обственны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1640" y="4608360"/>
            <a:ext cx="9215640" cy="29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Приведенное собственное движение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вычисляется из видимой звездной величины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и моду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обственного движения звезды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μ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по формуле: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H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0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+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5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·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lg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μ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Эта формула аналогична определению абсолютной звездной величины (светимости)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0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+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5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·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lg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</a:t>
            </a: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π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Но вместо параллакса в ней используется модуль собственного движения 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μ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, между которыми </a:t>
            </a:r>
            <a:r>
              <a:rPr b="0" i="1" lang="ru-RU" sz="14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имеется статистическая связь, вытекающая из корреляции собственных движений и параллаксов: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μ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| </a:t>
            </a: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~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v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t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· </a:t>
            </a:r>
            <a:r>
              <a:rPr b="0" i="1" lang="ru-RU" sz="1400" spc="-1" strike="noStrike">
                <a:solidFill>
                  <a:srgbClr val="660066"/>
                </a:solidFill>
                <a:latin typeface="DejaVu Sans"/>
                <a:ea typeface="DejaVu Sans"/>
              </a:rPr>
              <a:t>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Эта корреляция приводит к </a:t>
            </a:r>
            <a:r>
              <a:rPr b="0" i="1" lang="ru-RU" sz="1400" spc="-1" strike="noStrike">
                <a:solidFill>
                  <a:srgbClr val="660066"/>
                </a:solidFill>
                <a:latin typeface="AGGAXL+SFSO0600"/>
                <a:ea typeface="AGGAXL+SFSO0600"/>
              </a:rPr>
              <a:t>статистической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вязи между светимостями и привед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собственными движ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NAEUY+SFSS0600"/>
                <a:ea typeface="SNAEUY+SFSS0600"/>
              </a:rPr>
              <a:t>А.А. Мызников, В.А. Ахметов, П.Н. Ф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23CE-2226-4E52-A1FA-471CDA660D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3960" y="70920"/>
            <a:ext cx="8564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60066"/>
                </a:solidFill>
                <a:latin typeface="Tahoma"/>
              </a:rPr>
              <a:t>Красное Cгущение на диаграмме Герцшпрунга-Расселла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0280" y="1519200"/>
            <a:ext cx="3860640" cy="5321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96000" y="1871640"/>
            <a:ext cx="511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Красное сгущение —</a:t>
            </a: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 компактное образование из </a:t>
            </a:r>
            <a:r>
              <a:rPr b="0" i="1" lang="ru-RU" sz="1300" spc="-1" strike="noStrike">
                <a:solidFill>
                  <a:srgbClr val="660066"/>
                </a:solidFill>
                <a:latin typeface="MRMYOE+SFSX0600"/>
                <a:ea typeface="MRMYOE+SFSX0600"/>
              </a:rPr>
              <a:t>звезд на диаграмме Герцшпрунга-Расселла, соответствующее фазе горения гелия в ядре звезды. В этот период звёзды имеют большую светимость, чем звёзды главной последовательности с той же самой температурой поверх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В теории, абсолютные светимости звёзд 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красном сгущении довольно независимы о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звёздного состава и возраста, поэтому 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удобно использовать как маяки для оцен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расстояний внутри нашей галактики и 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близлежащих галактиках и кластера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Для светимостей звезд красного сгущ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теория предсказывае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BT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2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6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±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VT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86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±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J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87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±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H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41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±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WKYRQD+SFSI0600"/>
                <a:ea typeface="WKYRQD+SFSI0600"/>
              </a:rPr>
              <a:t>M</a:t>
            </a:r>
            <a:r>
              <a:rPr b="0" i="1" lang="ru-RU" sz="1400" spc="-1" strike="noStrike" baseline="-33000">
                <a:solidFill>
                  <a:srgbClr val="660066"/>
                </a:solidFill>
                <a:latin typeface="CMGEIY+SFSI0500"/>
                <a:ea typeface="CMGEIY+SFSI0500"/>
              </a:rPr>
              <a:t>Ks</a:t>
            </a:r>
            <a:r>
              <a:rPr b="0" i="1" lang="ru-RU" sz="1400" spc="-1" strike="noStrike">
                <a:solidFill>
                  <a:srgbClr val="660066"/>
                </a:solidFill>
                <a:latin typeface="CMGEIY+SFSI0500"/>
                <a:ea typeface="CMGEIY+SFSI0500"/>
              </a:rPr>
              <a:t> </a:t>
            </a:r>
            <a:r>
              <a:rPr b="0" i="1" lang="ru-RU" sz="1400" spc="-1" strike="noStrike">
                <a:solidFill>
                  <a:srgbClr val="660066"/>
                </a:solidFill>
                <a:latin typeface="QEAPRL+CMSS8"/>
                <a:ea typeface="QEAPRL+CMSS8"/>
              </a:rPr>
              <a:t>=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−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1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52 </a:t>
            </a:r>
            <a:r>
              <a:rPr b="0" i="1" lang="ru-RU" sz="1400" spc="-1" strike="noStrike">
                <a:solidFill>
                  <a:srgbClr val="660066"/>
                </a:solidFill>
                <a:latin typeface="MHOERT+CMSY6"/>
                <a:ea typeface="MHOERT+CMSY6"/>
              </a:rPr>
              <a:t>± 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</a:t>
            </a:r>
            <a:r>
              <a:rPr b="0" i="1" lang="ru-RU" sz="1400" spc="-1" strike="noStrike" baseline="33000">
                <a:solidFill>
                  <a:srgbClr val="660066"/>
                </a:solidFill>
                <a:latin typeface="MRMYOE+SFSX0600"/>
                <a:ea typeface="MRMYOE+SFSX0600"/>
              </a:rPr>
              <a:t>m</a:t>
            </a:r>
            <a:r>
              <a:rPr b="0" i="1" lang="ru-RU" sz="1400" spc="-1" strike="noStrike">
                <a:solidFill>
                  <a:srgbClr val="660066"/>
                </a:solidFill>
                <a:latin typeface="MXYAXU+CMMI6"/>
                <a:ea typeface="MXYAXU+CMMI6"/>
              </a:rPr>
              <a:t>.</a:t>
            </a:r>
            <a:r>
              <a:rPr b="0" i="1" lang="ru-RU" sz="1400" spc="-1" strike="noStrike">
                <a:solidFill>
                  <a:srgbClr val="660066"/>
                </a:solidFill>
                <a:latin typeface="SNAEUY+SFSS0600"/>
                <a:ea typeface="SNAEUY+SFSS0600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NAEUY+SFSS0600"/>
                <a:ea typeface="SNAEUY+SFSS0600"/>
              </a:rPr>
              <a:t>А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A9BB-619F-4093-BEC5-CD2B6E3A59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0:37:11Z</dcterms:created>
  <dc:creator>astrometry </dc:creator>
  <dc:description/>
  <dc:language>en-US</dc:language>
  <cp:lastModifiedBy>Peter Fedorov</cp:lastModifiedBy>
  <dcterms:modified xsi:type="dcterms:W3CDTF">2012-11-10T10:46:23Z</dcterms:modified>
  <cp:revision>216</cp:revision>
  <dc:subject/>
  <dc:title/>
</cp:coreProperties>
</file>